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FA6-3941-4DAF-889D-D4897282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081-513A-4B50-B34C-E998F01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5B6-FB85-4EAA-9473-F1037CB9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84C-267B-4527-8D4B-C1A48F69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531-6C56-4A06-9470-F852A613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D9C-897D-4B9B-9E61-2BDA79C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80B-4906-4236-A01C-763AD51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7EA-28A9-41A9-A428-EEA04B83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AB8-5691-4D95-ADB9-A3E5AB7B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180-9693-446B-8CF9-4183945D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744-0DF0-4BE0-ABC8-F7CFA36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544-8035-4335-9B8F-26692C1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74D-F46A-4685-BE58-DCDA4D5298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bscohost.com/thisTopic.php?marketID=2&amp;topicID=84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csi.ie/index.jsp?1nID=93&amp;2nID=103&amp;nID=165&amp;aID=206" TargetMode="External"/><Relationship Id="rId2" Type="http://schemas.openxmlformats.org/officeDocument/2006/relationships/hyperlink" Target="http://www.rcsi.ie/index.jsp?1nID=93&amp;2nID=103&amp;nID=165&amp;aID=207" TargetMode="External"/><Relationship Id="rId3" Type="http://schemas.openxmlformats.org/officeDocument/2006/relationships/hyperlink" Target="http://www.rcsi.ie/index.jsp?1nID=93&amp;2nID=103&amp;nID=165&amp;aID=208" TargetMode="External"/><Relationship Id="rId4" Type="http://schemas.openxmlformats.org/officeDocument/2006/relationships/hyperlink" Target="http://www.rcsi.ie/index.jsp?1nID=93&amp;2nID=103&amp;nID=165&amp;aID=209" TargetMode="External"/><Relationship Id="rId5" Type="http://schemas.openxmlformats.org/officeDocument/2006/relationships/hyperlink" Target="http://www.rcsi.ie/index.jsp?1nID=93&amp;2nID=103&amp;nID=165&amp;aID=212" TargetMode="External"/><Relationship Id="rId6" Type="http://schemas.openxmlformats.org/officeDocument/2006/relationships/hyperlink" Target="http://www.rcsi.ie/index.jsp?1nID=93&amp;2nID=103&amp;nID=165&amp;aID=213" TargetMode="External"/><Relationship Id="rId7" Type="http://schemas.openxmlformats.org/officeDocument/2006/relationships/hyperlink" Target="http://www.rcsi.ie/index.jsp?1nID=93&amp;2nID=103&amp;nID=165&amp;aID=214" TargetMode="External"/><Relationship Id="rId8" Type="http://schemas.openxmlformats.org/officeDocument/2006/relationships/hyperlink" Target="http://www.rcsi.ie/index.jsp?&amp;1nID=93&amp;pID=103&amp;nID=165&amp;aID=215" TargetMode="External"/><Relationship Id="rId9" Type="http://schemas.openxmlformats.org/officeDocument/2006/relationships/hyperlink" Target="http://www.rcsi.ie/index.jsp?1nID=93&amp;2nID=103&amp;nID=165&amp;aID=216" TargetMode="External"/><Relationship Id="rId10" Type="http://schemas.openxmlformats.org/officeDocument/2006/relationships/hyperlink" Target="http://www.rcsi.ie/index.jsp?1nID=93&amp;2nID=103&amp;nID=165&amp;aID=218" TargetMode="External"/><Relationship Id="rId11" Type="http://schemas.openxmlformats.org/officeDocument/2006/relationships/hyperlink" Target="http://www.rcsi.ie/index.jsp?pID=103&amp;nID=165&amp;aID=225" TargetMode="External"/><Relationship Id="rId12" Type="http://schemas.openxmlformats.org/officeDocument/2006/relationships/hyperlink" Target="http://www.rcsi.ie/index.jsp?pID=103&amp;nID=165&amp;aID=230" TargetMode="External"/><Relationship Id="rId13" Type="http://schemas.openxmlformats.org/officeDocument/2006/relationships/hyperlink" Target="http://www.rcsi.ie/index.jsp?pID=103&amp;nID=165&amp;aID=231" TargetMode="External"/><Relationship Id="rId14" Type="http://schemas.openxmlformats.org/officeDocument/2006/relationships/hyperlink" Target="http://www.rcsi.ie/index.jsp?&amp;1nID=93&amp;pID=103&amp;nID=165&amp;aID=1352" TargetMode="External"/><Relationship Id="rId15" Type="http://schemas.openxmlformats.org/officeDocument/2006/relationships/hyperlink" Target="http://www.rcsi.ie/index.jsp?pID=103&amp;nID=165&amp;aID=233" TargetMode="External"/><Relationship Id="rId16" Type="http://schemas.openxmlformats.org/officeDocument/2006/relationships/hyperlink" Target="http://www.rcsi.ie/index.jsp?pID=103&amp;nID=165&amp;aID=234" TargetMode="External"/><Relationship Id="rId17" Type="http://schemas.openxmlformats.org/officeDocument/2006/relationships/hyperlink" Target="http://www.rcsi.ie/index.jsp?pID=103&amp;nID=165&amp;aID=235" TargetMode="External"/><Relationship Id="rId18" Type="http://schemas.openxmlformats.org/officeDocument/2006/relationships/hyperlink" Target="http://www.rcsi.ie/index.jsp?pID=103&amp;nID=165&amp;aID=236" TargetMode="External"/><Relationship Id="rId19" Type="http://schemas.openxmlformats.org/officeDocument/2006/relationships/hyperlink" Target="http://www.rcsi.ie/index.jsp?pID=103&amp;nID=165&amp;aID=237" TargetMode="External"/><Relationship Id="rId20" Type="http://schemas.openxmlformats.org/officeDocument/2006/relationships/hyperlink" Target="http://www.rcsi.ie/index.jsp?pID=103&amp;nID=165&amp;aID=238" TargetMode="External"/><Relationship Id="rId21" Type="http://schemas.openxmlformats.org/officeDocument/2006/relationships/hyperlink" Target="http://www.rcsi.ie/index.jsp?pID=103&amp;nID=165&amp;aID=239" TargetMode="External"/><Relationship Id="rId22" Type="http://schemas.openxmlformats.org/officeDocument/2006/relationships/hyperlink" Target="http://www.rcsi.ie/index.jsp?pID=103&amp;nID=165&amp;aID=240" TargetMode="External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9999"/>
                </a:solidFill>
                <a:latin typeface="Candara"/>
              </a:rPr>
              <a:t>Health Sciences Information </a:t>
            </a:r>
            <a:br>
              <a:rPr sz="4000"/>
            </a:br>
            <a:r>
              <a:rPr b="1" lang="en-IE" sz="1800" spc="-1" strike="noStrike">
                <a:solidFill>
                  <a:srgbClr val="333399"/>
                </a:solidFill>
                <a:latin typeface="Candara"/>
              </a:rPr>
              <a:t>Pai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66ccff"/>
                </a:solidFill>
                <a:latin typeface="Candara"/>
              </a:rPr>
              <a:t>Breffni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66ccff"/>
                </a:solidFill>
                <a:latin typeface="Candara"/>
              </a:rPr>
              <a:t>RCSI Beaumont Hospita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66ccff"/>
                </a:solidFill>
                <a:latin typeface="Candara"/>
              </a:rPr>
              <a:t>breffnismith@rcsi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c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8526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3. E-B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Safar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Candara"/>
              </a:rPr>
              <a:t>Statref  </a:t>
            </a:r>
            <a:r>
              <a:rPr b="1" lang="en-IE" sz="2800" spc="-1" strike="noStrike">
                <a:solidFill>
                  <a:srgbClr val="808080"/>
                </a:solidFill>
                <a:latin typeface="Candara"/>
              </a:rPr>
              <a:t>€€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MD Con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Net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Myi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Dawso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Books@O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Thieme E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PsycBooks C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808080"/>
                </a:solidFill>
                <a:latin typeface="Candara"/>
              </a:rPr>
              <a:t>Oxford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4. Online Referenc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andara"/>
              </a:rPr>
              <a:t>Digests are evidence-based clinical reference tools which survey, appraise  and summarise the literature about common clinical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anda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Candara"/>
              </a:rPr>
              <a:t>Dynamed</a:t>
            </a:r>
            <a:r>
              <a:rPr b="1" lang="en-IE" sz="2400" spc="-1" strike="noStrike">
                <a:solidFill>
                  <a:srgbClr val="009999"/>
                </a:solidFill>
                <a:latin typeface="Candara"/>
              </a:rPr>
              <a:t>  </a:t>
            </a:r>
            <a:r>
              <a:rPr b="1" lang="en-IE" sz="2400" spc="-1" strike="noStrike">
                <a:solidFill>
                  <a:srgbClr val="808080"/>
                </a:solidFill>
                <a:latin typeface="Candara"/>
              </a:rPr>
              <a:t>€€€</a:t>
            </a:r>
            <a:r>
              <a:rPr b="1" lang="en-IE" sz="2400" spc="-1" strike="noStrike">
                <a:solidFill>
                  <a:srgbClr val="009999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anda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Candara"/>
              </a:rPr>
              <a:t>Up-To-Date</a:t>
            </a:r>
            <a:r>
              <a:rPr b="1" lang="en-IE" sz="2400" spc="-1" strike="noStrike">
                <a:solidFill>
                  <a:srgbClr val="009999"/>
                </a:solidFill>
                <a:latin typeface="Candara"/>
              </a:rPr>
              <a:t>  </a:t>
            </a:r>
            <a:r>
              <a:rPr b="1" lang="en-IE" sz="2400" spc="-1" strike="noStrike">
                <a:solidFill>
                  <a:srgbClr val="808080"/>
                </a:solidFill>
                <a:latin typeface="Candara"/>
              </a:rPr>
              <a:t>€€€€€</a:t>
            </a:r>
            <a:r>
              <a:rPr b="1" lang="en-IE" sz="2400" spc="-1" strike="noStrike">
                <a:solidFill>
                  <a:srgbClr val="009999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andar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Candara"/>
              </a:rPr>
              <a:t>Clinical Evidence</a:t>
            </a:r>
            <a:r>
              <a:rPr b="1" lang="en-IE" sz="2400" spc="-1" strike="noStrike">
                <a:solidFill>
                  <a:srgbClr val="009999"/>
                </a:solidFill>
                <a:latin typeface="Candara"/>
              </a:rPr>
              <a:t>  </a:t>
            </a:r>
            <a:r>
              <a:rPr b="1" lang="en-IE" sz="2400" spc="-1" strike="noStrike">
                <a:solidFill>
                  <a:srgbClr val="808080"/>
                </a:solidFill>
                <a:latin typeface="Candara"/>
              </a:rPr>
              <a:t>€€€€</a:t>
            </a:r>
            <a:r>
              <a:rPr b="1" lang="en-IE" sz="2400" spc="-1" strike="noStrike">
                <a:solidFill>
                  <a:srgbClr val="009999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Candara"/>
              </a:rPr>
              <a:t>Pharmacopeias &amp; BN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Candara"/>
              </a:rPr>
              <a:t>Encyclopaedia Britan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Candara"/>
              </a:rPr>
              <a:t>Nursing re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808080"/>
                </a:solidFill>
                <a:latin typeface="Candara"/>
              </a:rPr>
              <a:t>Rehabilitation reference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MPj04330920000[1]"/>
          <p:cNvPicPr/>
          <p:nvPr/>
        </p:nvPicPr>
        <p:blipFill>
          <a:blip r:embed="rId1"/>
          <a:stretch/>
        </p:blipFill>
        <p:spPr>
          <a:xfrm>
            <a:off x="4789440" y="342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MPj04330920000[1]"/>
          <p:cNvPicPr/>
          <p:nvPr/>
        </p:nvPicPr>
        <p:blipFill>
          <a:blip r:embed="rId2"/>
          <a:stretch/>
        </p:blipFill>
        <p:spPr>
          <a:xfrm>
            <a:off x="5076720" y="342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MPj04330920000[1]"/>
          <p:cNvPicPr/>
          <p:nvPr/>
        </p:nvPicPr>
        <p:blipFill>
          <a:blip r:embed="rId3"/>
          <a:stretch/>
        </p:blipFill>
        <p:spPr>
          <a:xfrm>
            <a:off x="5365800" y="342900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MPj04330920000[1]"/>
          <p:cNvPicPr/>
          <p:nvPr/>
        </p:nvPicPr>
        <p:blipFill>
          <a:blip r:embed="rId4"/>
          <a:stretch/>
        </p:blipFill>
        <p:spPr>
          <a:xfrm>
            <a:off x="5437080" y="3860640"/>
            <a:ext cx="360360" cy="293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MPj04330920000[1]"/>
          <p:cNvPicPr/>
          <p:nvPr/>
        </p:nvPicPr>
        <p:blipFill>
          <a:blip r:embed="rId5"/>
          <a:stretch/>
        </p:blipFill>
        <p:spPr>
          <a:xfrm>
            <a:off x="4211640" y="2997360"/>
            <a:ext cx="360360" cy="293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MPj04330920000[1]"/>
          <p:cNvPicPr/>
          <p:nvPr/>
        </p:nvPicPr>
        <p:blipFill>
          <a:blip r:embed="rId6"/>
          <a:stretch/>
        </p:blipFill>
        <p:spPr>
          <a:xfrm>
            <a:off x="4500720" y="2997360"/>
            <a:ext cx="360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  <p:sp>
        <p:nvSpPr>
          <p:cNvPr id="79" name="Oval 5"/>
          <p:cNvSpPr/>
          <p:nvPr/>
        </p:nvSpPr>
        <p:spPr>
          <a:xfrm>
            <a:off x="3995640" y="3068640"/>
            <a:ext cx="1368360" cy="62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427640" y="5157720"/>
            <a:ext cx="1439640" cy="627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49840"/>
          </a:xfrm>
          <a:prstGeom prst="rect">
            <a:avLst/>
          </a:prstGeom>
          <a:ln w="0">
            <a:noFill/>
          </a:ln>
        </p:spPr>
      </p:pic>
      <p:sp>
        <p:nvSpPr>
          <p:cNvPr id="84" name="Oval 4"/>
          <p:cNvSpPr/>
          <p:nvPr/>
        </p:nvSpPr>
        <p:spPr>
          <a:xfrm>
            <a:off x="4716360" y="2637000"/>
            <a:ext cx="1152720" cy="55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From tradi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0070213114840_mod1"/>
          <p:cNvPicPr/>
          <p:nvPr/>
        </p:nvPicPr>
        <p:blipFill>
          <a:blip r:embed="rId1"/>
          <a:stretch/>
        </p:blipFill>
        <p:spPr>
          <a:xfrm>
            <a:off x="684360" y="1844640"/>
            <a:ext cx="2381040" cy="391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0070213114930_mod5"/>
          <p:cNvPicPr/>
          <p:nvPr/>
        </p:nvPicPr>
        <p:blipFill>
          <a:blip r:embed="rId2"/>
          <a:stretch/>
        </p:blipFill>
        <p:spPr>
          <a:xfrm>
            <a:off x="3564000" y="1989000"/>
            <a:ext cx="1962000" cy="333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20070213115147_mod3"/>
          <p:cNvPicPr/>
          <p:nvPr/>
        </p:nvPicPr>
        <p:blipFill>
          <a:blip r:embed="rId3"/>
          <a:stretch/>
        </p:blipFill>
        <p:spPr>
          <a:xfrm>
            <a:off x="6012000" y="1844640"/>
            <a:ext cx="2381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9999"/>
                </a:solidFill>
                <a:latin typeface="Candara"/>
              </a:rPr>
              <a:t>Thank you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66ccff"/>
                </a:solidFill>
                <a:latin typeface="Candara"/>
              </a:rPr>
              <a:t>breffnismith@rcsi.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…</a:t>
            </a: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to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Verdana"/>
            </a:endParaRPr>
          </a:p>
        </p:txBody>
      </p:sp>
      <p:pic>
        <p:nvPicPr>
          <p:cNvPr id="50" name="Picture 5" descr="iPhone the Body Electric: U of Utah iPhone 'Apps' Visualize Human Anatomy"/>
          <p:cNvPicPr/>
          <p:nvPr/>
        </p:nvPicPr>
        <p:blipFill>
          <a:blip r:embed="rId1"/>
          <a:stretch/>
        </p:blipFill>
        <p:spPr>
          <a:xfrm>
            <a:off x="3276720" y="1700280"/>
            <a:ext cx="2705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Variety of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Colleagu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Intern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Book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Journ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Datab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E-jour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E-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Dig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Multi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9999"/>
                </a:solidFill>
                <a:latin typeface="Candara"/>
              </a:rPr>
              <a:t>Gate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9999"/>
                </a:solidFill>
                <a:latin typeface="Candara"/>
              </a:rPr>
              <a:t>A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Variety of Su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4546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009999"/>
                </a:solidFill>
                <a:uFillTx/>
                <a:latin typeface="Candara"/>
              </a:rPr>
              <a:t>Allied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Anaesthesia &amp; Critical Care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2"/>
              </a:rPr>
              <a:t>Anatomy &amp; Biology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3"/>
              </a:rPr>
              <a:t>Biochemistry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4"/>
              </a:rPr>
              <a:t>Chemistry &amp; Physics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5"/>
              </a:rPr>
              <a:t>Clinical Microbiology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6"/>
              </a:rPr>
              <a:t>Clinical Neurological Sciences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7"/>
              </a:rPr>
              <a:t>Clinical Pharmacology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8"/>
              </a:rPr>
              <a:t>Epidemiology &amp; Public Health Medicine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9"/>
              </a:rPr>
              <a:t>Forensic Medicine &amp; Toxicology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0"/>
              </a:rPr>
              <a:t>General Practice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1"/>
              </a:rPr>
              <a:t>Healthcare Management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2"/>
              </a:rPr>
              <a:t>International Health &amp; Tropical Medicine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3"/>
              </a:rPr>
              <a:t>Medicine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148360" y="1700280"/>
            <a:ext cx="3311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4"/>
              </a:rPr>
              <a:t>Medical Ethics and Law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5"/>
              </a:rPr>
              <a:t>Nursing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6"/>
              </a:rPr>
              <a:t>Obstetrics &amp; Gynaecology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7"/>
              </a:rPr>
              <a:t>Ophthalmology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8"/>
              </a:rPr>
              <a:t>Orthopaedic Surgery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19"/>
              </a:rPr>
              <a:t>Otolaryngology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20"/>
              </a:rPr>
              <a:t>Paediatrics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21"/>
              </a:rPr>
              <a:t>Pathology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ndara"/>
                <a:hlinkClick r:id="rId22"/>
              </a:rPr>
              <a:t>Pharmacy</a:t>
            </a: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Physiology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Physiotherapy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Psychiatry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Psychology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Radiology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andara"/>
              </a:rPr>
              <a:t>Surgery </a:t>
            </a: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Characteristics of Pai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High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Up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Library staff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Knowledge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Knowledge of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Search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Search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MeSH, Trees, Explos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1.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Medline </a:t>
            </a:r>
            <a:r>
              <a:rPr b="1" lang="en-IE" sz="2200" spc="-1" strike="noStrike">
                <a:solidFill>
                  <a:srgbClr val="808080"/>
                </a:solidFill>
                <a:latin typeface="Candara"/>
              </a:rPr>
              <a:t>€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Cinahl </a:t>
            </a:r>
            <a:r>
              <a:rPr b="1" lang="en-IE" sz="2200" spc="-1" strike="noStrike">
                <a:solidFill>
                  <a:srgbClr val="808080"/>
                </a:solidFill>
                <a:latin typeface="Candara"/>
              </a:rPr>
              <a:t>€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Embase </a:t>
            </a:r>
            <a:r>
              <a:rPr b="1" lang="en-IE" sz="2200" spc="-1" strike="noStrike">
                <a:solidFill>
                  <a:srgbClr val="808080"/>
                </a:solidFill>
                <a:latin typeface="Candara"/>
              </a:rPr>
              <a:t>€€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Psycinfo </a:t>
            </a:r>
            <a:r>
              <a:rPr b="1" lang="en-IE" sz="2200" spc="-1" strike="noStrike">
                <a:solidFill>
                  <a:srgbClr val="808080"/>
                </a:solidFill>
                <a:latin typeface="Candara"/>
              </a:rPr>
              <a:t>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Cochrane €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Web of Science </a:t>
            </a:r>
            <a:r>
              <a:rPr b="1" lang="en-IE" sz="2200" spc="-1" strike="noStrike">
                <a:solidFill>
                  <a:srgbClr val="808080"/>
                </a:solidFill>
                <a:latin typeface="Candara"/>
              </a:rPr>
              <a:t>€€€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Journal Citation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Essential Science Indic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9999"/>
                </a:solidFill>
                <a:latin typeface="Candara"/>
              </a:rPr>
              <a:t>Evidence Based Medicine Reviews </a:t>
            </a:r>
            <a:r>
              <a:rPr b="1" lang="en-IE" sz="2200" spc="-1" strike="noStrike">
                <a:solidFill>
                  <a:srgbClr val="808080"/>
                </a:solidFill>
                <a:latin typeface="Candara"/>
              </a:rPr>
              <a:t>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9640" y="1600200"/>
            <a:ext cx="36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C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A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MID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Scop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Intern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Psyc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MicroMe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Global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Sports Dis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Biosis Previ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British Nursing Ind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808080"/>
                </a:solidFill>
                <a:latin typeface="Candara"/>
              </a:rPr>
              <a:t>Ovid Nursing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9999"/>
                </a:solidFill>
                <a:latin typeface="Candara"/>
              </a:rPr>
              <a:t>2. E-jou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Many publis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Candara"/>
              </a:rPr>
              <a:t>Ovid, Wiley, Emerald, Elsevi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009999"/>
              </a:buClr>
              <a:buFont typeface="Candar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100" spc="-1" strike="noStrike">
                <a:solidFill>
                  <a:srgbClr val="009999"/>
                </a:solidFill>
                <a:latin typeface="Candara"/>
              </a:rPr>
              <a:t>Science Direct </a:t>
            </a:r>
            <a:r>
              <a:rPr b="1" lang="en-IE" sz="3100" spc="-1" strike="noStrike">
                <a:solidFill>
                  <a:srgbClr val="808080"/>
                </a:solidFill>
                <a:latin typeface="Candara"/>
              </a:rPr>
              <a:t>€€€€€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9999"/>
                </a:solidFill>
                <a:latin typeface="Candara"/>
              </a:rPr>
              <a:t>Access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52:08Z</dcterms:created>
  <dc:creator>breffnismith</dc:creator>
  <dc:description/>
  <dc:language>en-US</dc:language>
  <cp:lastModifiedBy>UCD Library</cp:lastModifiedBy>
  <dcterms:modified xsi:type="dcterms:W3CDTF">2009-12-15T15:20:41Z</dcterms:modified>
  <cp:revision>53</cp:revision>
  <dc:subject/>
  <dc:title>Medical Information Resources</dc:title>
</cp:coreProperties>
</file>