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8C0-835D-482B-85C7-F1041658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492E-9D7D-422B-8794-E2452524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2242-6562-4012-8D28-085695D9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4935-CE71-4D65-9ED2-3415469A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4582-62AD-411E-825D-72233CDD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C85A-E152-4B61-9A8F-EB3491F1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1469-BB81-4F0F-BE58-C43022F7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803C-96CA-4BFC-A0A2-E0B810BD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A201-0E8C-46BF-BE44-CBE0FA48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527B-45EB-4912-81E3-C1D6D6C0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CB8C-DBF0-49E8-8F84-DD3436B1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A34-95B6-4048-BE17-774025C8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736A-FC7B-42F1-BDA2-10A13517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B234-D12B-4EB2-8D5B-8C3E4A98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1604-5884-43EA-A83E-75DB9BCE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030C-D6A0-45EF-81B6-A589F5E9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0E82-2FC2-4E5A-A3A2-16B7F945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137-2406-427A-8F26-8844D2DB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9F9A-1F5D-4653-9358-2AC6E5E8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E38-36D4-42A2-8956-1D505A82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FA1-2BA9-4A02-A4E1-D6A82608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1FB-A4D2-46F2-84E2-8452880D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AD3-9B13-49A1-812A-08456606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EEE4-31AC-4401-B13A-FCC16B34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70ED-5157-4937-AB81-F9CDB4684A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9DA4-7C5F-4938-9DD8-03D10F5003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e-merging technologies for education and librar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492360" y="3068640"/>
            <a:ext cx="1702080" cy="1701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5157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tting The Scene  -- Web 2.0 &amp; Library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onán Kennedy;       NUI Galwa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  ……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which brings us to Library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lirgroup.heanet.i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8209080" cy="554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lirgroup.heanet.i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042920" y="599256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by Bonaria Biancu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9640" y="168120"/>
            <a:ext cx="7993080" cy="5670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03640" y="3500280"/>
            <a:ext cx="2016000" cy="11527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549360"/>
            <a:ext cx="2016000" cy="11523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4724280"/>
            <a:ext cx="2016360" cy="6494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3068640"/>
            <a:ext cx="1800000" cy="11523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4360" y="1916280"/>
            <a:ext cx="1368360" cy="7189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ttp://lirgroup.heanet.i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Library 2.0 came from …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chael Casey in LibraryCru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 identified the need for libraries to adopt a strategy for constant change while promoting a participatory role for library users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lirgroup.heanet.i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Verdana"/>
              </a:rPr>
              <a:t>Some Key Principles of Library 2.0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rowser + Web 2.0 Applications + Connectivity = Full-featured OPAC  e.g. Primo from Ex Libr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arness the library user in both design and implementation of servic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brary users should be able to craft and modify library provided services e.g like Blogger – templates, options, etc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stant change is replacing the older model of upgrade cycles -- Beta is forever  -- copy the Google and Flickr mode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opt ideas and products from peripheral fields into library service mode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lirgroup.heanet.i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Library 2.0 and The Us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th Library 2.0, library services are frequently evaluated and updated to meet the changing needs of library user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brary 2.0 also calls for libraries to encourage user participation and feedback in the development and maintaining of library servic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th information and ideas flowing in both directions – from the library to the user and from the user to the library – library services have the ability to evolve and improve on a constant and rapid basi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[wikipedia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lirgroup.heanet.i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e-merging technologies for education and librar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492360" y="3789360"/>
            <a:ext cx="1702080" cy="170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ttp://lirgroup.heanet.i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First things first – what is 2.0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ints at a new and improved world wide we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63640" y="2565360"/>
            <a:ext cx="5184720" cy="34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lirgroup.heanet.i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7111800" cy="203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lirgroup.heanet.i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8209080" cy="5459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4360" y="40464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t covers a vast range of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1484280"/>
            <a:ext cx="1800000" cy="936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1413000"/>
            <a:ext cx="2087640" cy="9363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2133720"/>
            <a:ext cx="1800360" cy="9363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3357720"/>
            <a:ext cx="1800000" cy="9363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48360" y="4797360"/>
            <a:ext cx="1800360" cy="936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4941720"/>
            <a:ext cx="1800360" cy="936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lirgroup.heanet.i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Some key concepts of Web 2.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lo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SS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– a family of web feed formats used to publish frequently updated pages e.g blogs, news feeds et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shup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a website or web application that seamlessly combines content from more than one source into an integrated experience e.g. RSS Fee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long tail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t a relative handful of weblogs have many links going into them but "the long tail" of millions of weblogs may have only a handful Amazon - "We sold more books today that didn't sell at all yesterday than we sold today of all the books that did sell yesterday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Wiki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type of Web site that allows the visitors themselves to easily edit and change available content (collaborative author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lksonom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- collaboratively generated, open-ended labels that categorise content such as Web pages, online photographs, and Web links. The labels are commonly known as tags and the labeling process is called tagg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lirgroup.heanet.i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8497800" cy="336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lirgroup.heanet.i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Fundamentals of Web 2.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he web as platfor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Harnessing collective intelligen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No more set software releases  – beta beta bet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Rich user experienc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social phenomenon. "Web 2.0 is made of people”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Michael Platt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more organized and categorized content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t’s effective from the human connections and network effects - examples: podcasting, eBay, Wikipedia, del.icio.us, Skype, and Adsen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lirgroup.heanet.i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7921800" cy="6015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95480" y="1576440"/>
            <a:ext cx="66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1916280"/>
            <a:ext cx="4845240" cy="52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gging – not tax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637000"/>
            <a:ext cx="3456000" cy="52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It’s user contro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lirgroup.heanet.i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development of tag-based folksonomies, delivered through blogs and wikis, sets up a basis for a semantic-web environmen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lirgroup.heanet.i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2:50:55Z</dcterms:created>
  <dc:creator> </dc:creator>
  <dc:description/>
  <dc:language>en-US</dc:language>
  <cp:lastModifiedBy> </cp:lastModifiedBy>
  <dcterms:modified xsi:type="dcterms:W3CDTF">2006-12-14T15:20:13Z</dcterms:modified>
  <cp:revision>13</cp:revision>
  <dc:subject/>
  <dc:title>Slide 1</dc:title>
</cp:coreProperties>
</file>