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00F7-C1D0-4E6A-B35A-45428773A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4120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4180680"/>
            <a:ext cx="74120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5457-60FC-4229-AD70-01855466F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2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1806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2920" y="41806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CA12-3E42-4C88-BC40-9F1A6045D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1240" y="17524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7200" y="17524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41806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01240" y="41806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7200" y="4180680"/>
            <a:ext cx="23864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7057-5DA6-4C7B-BACF-313ACA57D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1752480"/>
            <a:ext cx="7412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9499-B88F-4A3F-ABDE-5AD0CF328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412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F4A1-6267-4D45-B95C-289870E23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16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2920" y="1752480"/>
            <a:ext cx="3616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B2A8-EBD3-4F6B-A714-44073EA4B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0497-1F4D-461A-BB71-4366A6EE2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4920" y="337680"/>
            <a:ext cx="74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3E1C-8145-4991-8A0A-51F6CB0B1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2920" y="1752480"/>
            <a:ext cx="3616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41806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08FD-9581-45AA-9F4C-2EAC3ECE7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16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2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2920" y="41806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B9A6-C346-4F2E-8152-FB36EEC08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2920" y="1752480"/>
            <a:ext cx="3616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4180680"/>
            <a:ext cx="741204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F8EF-6025-445E-A65C-39987C799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7fcc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752480"/>
            <a:ext cx="7412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33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33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100"/>
              </a:spcBef>
              <a:buClr>
                <a:srgbClr val="33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100"/>
              </a:spcBef>
              <a:buClr>
                <a:srgbClr val="33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3333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66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67520" y="6400440"/>
            <a:ext cx="719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463-3730-4B44-B1A8-93A3216D461B}" type="slidenum">
              <a:rPr b="0" lang="en-US" sz="1000" spc="-1" strike="noStrike">
                <a:solidFill>
                  <a:srgbClr val="33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swiki.org/wiki/Weblogs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cdscience.blogspo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5440" cy="46468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38040" y="4908600"/>
            <a:ext cx="1114560" cy="1523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835280" y="189000"/>
            <a:ext cx="6858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IR HEANet User Group for Libraries Seminar ~ Emerging Technologies for Libraries and Education ~ 8</a:t>
            </a:r>
            <a:r>
              <a:rPr b="0" lang="en-GB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c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1628640"/>
            <a:ext cx="685800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337fcc"/>
                </a:solidFill>
                <a:latin typeface="Arial"/>
              </a:rPr>
              <a:t>Libraries and Blogs: new communication tools for academic librari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7fcc"/>
                </a:solidFill>
                <a:latin typeface="Arial"/>
              </a:rPr>
              <a:t>Josh Clark, University College 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7fcc"/>
                </a:solidFill>
                <a:latin typeface="Arial"/>
              </a:rPr>
              <a:t>Diarmuid Stokes, U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5084640"/>
            <a:ext cx="2459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66"/>
                </a:solidFill>
                <a:latin typeface="Arial"/>
              </a:rPr>
              <a:t>UCD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5257800"/>
            <a:ext cx="280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66"/>
                </a:solidFill>
                <a:latin typeface="Arial"/>
              </a:rPr>
              <a:t>An Coláiste Ollscoil, Baile Átha Cli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66"/>
                </a:solidFill>
                <a:latin typeface="Arial"/>
              </a:rPr>
              <a:t>Leabharlann U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997360"/>
            <a:ext cx="82296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7fcc"/>
                </a:solidFill>
                <a:latin typeface="Arial"/>
              </a:rPr>
              <a:t>UCD Science blog screensho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620640"/>
            <a:ext cx="74120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Reasons for creating our blog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3454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ommunicating science library news and events 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Advertising training session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Announcing new e-resources </a:t>
            </a:r>
            <a:r>
              <a:rPr b="1" lang="en-GB" sz="2800" spc="-1" strike="noStrike">
                <a:solidFill>
                  <a:srgbClr val="ef1f1d"/>
                </a:solidFill>
                <a:latin typeface="Arial"/>
              </a:rPr>
              <a:t>(especially IReL!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Recent acquisitions (monographs and journals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Resources on the web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764640"/>
            <a:ext cx="74120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Our Target Audience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691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Students of all science subject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Science staff (academics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The wider academic library community(?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1204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76500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7fcc"/>
                </a:solidFill>
                <a:latin typeface="Arial"/>
              </a:rPr>
              <a:t>We have an </a:t>
            </a:r>
            <a:r>
              <a:rPr b="1" lang="en-US" sz="2400" spc="-1" strike="noStrike">
                <a:solidFill>
                  <a:srgbClr val="ef1f1d"/>
                </a:solidFill>
                <a:latin typeface="Arial"/>
              </a:rPr>
              <a:t>RSS feed</a:t>
            </a:r>
            <a:r>
              <a:rPr b="1" lang="en-US" sz="2400" spc="-1" strike="noStrike">
                <a:solidFill>
                  <a:srgbClr val="337fcc"/>
                </a:solidFill>
                <a:latin typeface="Arial"/>
              </a:rPr>
              <a:t> AND a </a:t>
            </a:r>
            <a:r>
              <a:rPr b="1" lang="en-US" sz="2400" spc="-1" strike="noStrike">
                <a:solidFill>
                  <a:srgbClr val="ef1f1d"/>
                </a:solidFill>
                <a:latin typeface="Arial"/>
              </a:rPr>
              <a:t>web counter</a:t>
            </a:r>
            <a:endParaRPr b="0" lang="en-US" sz="24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7fcc"/>
                </a:solidFill>
                <a:latin typeface="Arial"/>
              </a:rPr>
              <a:t>59 subscribers(?)</a:t>
            </a:r>
            <a:endParaRPr b="0" lang="en-US" sz="24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353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1204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74170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1f1d"/>
                </a:solidFill>
                <a:latin typeface="Arial"/>
              </a:rPr>
              <a:t>RSS Feeds &amp; Feed Reader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1204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2723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f1f1d"/>
                </a:solidFill>
                <a:latin typeface="Arial"/>
              </a:rPr>
              <a:t>Sitemeter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 – free statistical service that tracks where the viewers are coming from….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5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1204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2723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f1f1d"/>
                </a:solidFill>
                <a:latin typeface="Arial"/>
              </a:rPr>
              <a:t>Sitemeter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 – free statistical service that tracks where the viewers are coming from….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1890720"/>
            <a:ext cx="4817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1204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2723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ef1f1d"/>
                </a:solidFill>
                <a:latin typeface="Arial"/>
              </a:rPr>
              <a:t>Sitemeter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 – free statistical service that tracks where the viewers are coming from….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5027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836640"/>
            <a:ext cx="74120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Notes on updating…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41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Try to update regularly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Always something to post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Work as a team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Collaboration helps!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Notes on updating…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629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8167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Blogs??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360072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35280" y="1027080"/>
            <a:ext cx="54734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765000"/>
            <a:ext cx="822960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7fcc"/>
                </a:solidFill>
                <a:latin typeface="Arial"/>
              </a:rPr>
              <a:t>SO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7fcc"/>
                </a:solidFill>
                <a:latin typeface="Arial"/>
              </a:rPr>
              <a:t>fe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7fcc"/>
                </a:solidFill>
                <a:latin typeface="Arial"/>
              </a:rPr>
              <a:t>UNDER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7fcc"/>
                </a:solidFill>
                <a:latin typeface="Arial"/>
              </a:rPr>
              <a:t>to p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33360"/>
            <a:ext cx="2243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133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32320" y="2781360"/>
            <a:ext cx="4711680" cy="4076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765000"/>
            <a:ext cx="374472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1f1d"/>
                </a:solidFill>
                <a:latin typeface="Arial"/>
              </a:rPr>
              <a:t>  </a:t>
            </a:r>
            <a:r>
              <a:rPr b="1" lang="en-GB" sz="4400" spc="-1" strike="noStrike">
                <a:solidFill>
                  <a:srgbClr val="337fcc"/>
                </a:solidFill>
                <a:latin typeface="Arial"/>
              </a:rPr>
              <a:t>Why</a:t>
            </a:r>
            <a:r>
              <a:rPr b="1" lang="en-GB" sz="3600" spc="-1" strike="noStrike">
                <a:solidFill>
                  <a:srgbClr val="337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7fcc"/>
                </a:solidFill>
                <a:latin typeface="Arial"/>
              </a:rPr>
              <a:t>        </a:t>
            </a:r>
            <a:r>
              <a:rPr b="1" lang="en-GB" sz="4400" spc="-1" strike="noStrike">
                <a:solidFill>
                  <a:srgbClr val="337fcc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7fcc"/>
                </a:solidFill>
                <a:latin typeface="Arial"/>
              </a:rPr>
              <a:t>  </a:t>
            </a:r>
            <a:r>
              <a:rPr b="1" lang="en-GB" sz="4400" spc="-1" strike="noStrike">
                <a:solidFill>
                  <a:srgbClr val="337fcc"/>
                </a:solidFill>
                <a:latin typeface="Arial"/>
              </a:rPr>
              <a:t>Collabor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115920"/>
            <a:ext cx="30085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Marketing your library blog…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412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It’s the key to success!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Include in your library orientation &amp; information skills session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email your users (academic staff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Why not include your blog URL in your email signature?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Marketing your library blog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773360"/>
            <a:ext cx="741204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Advertise on your library website and/or newsletter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Include a link from your subject portal(s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reate posters for your library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21e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eb86"/>
                </a:solidFill>
                <a:latin typeface="Arial"/>
              </a:rPr>
              <a:t>Place your blog on blog directories, i.e. Technorati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93920" y="189000"/>
            <a:ext cx="47833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Overall Effectiveness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773360"/>
            <a:ext cx="741204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Positive feedback from academic staff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Employing free statistical software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Showing hits from all over the world (including UCD!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Still, could use more marketing…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Overall Effectiveness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773360"/>
            <a:ext cx="741204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We’re also referenced in</a:t>
            </a:r>
            <a:r>
              <a:rPr b="0" lang="en-GB" sz="2800" spc="-1" strike="noStrike">
                <a:solidFill>
                  <a:srgbClr val="337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lebodnik</a:t>
            </a:r>
            <a:r>
              <a:rPr b="0" lang="en-US" sz="2200" spc="-1" strike="noStrike">
                <a:solidFill>
                  <a:srgbClr val="333366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Maribeth. Marketing and Outreach for Science &amp; Technology Libraries: Selected Resources. </a:t>
            </a:r>
            <a:r>
              <a:rPr b="1" i="1" lang="en-US" sz="2200" spc="-1" strike="noStrike">
                <a:solidFill>
                  <a:srgbClr val="333366"/>
                </a:solidFill>
                <a:latin typeface="Arial"/>
              </a:rPr>
              <a:t>Issues in Science &amp; Technology Librarianship</a:t>
            </a: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. No. 45, Winter 2006.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66"/>
                </a:solidFill>
                <a:latin typeface="Arial"/>
              </a:rPr>
              <a:t>Found at: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66"/>
                </a:solidFill>
                <a:latin typeface="Arial"/>
              </a:rPr>
              <a:t>&lt;http://www.istl.org/06-winter/internet2.html&gt;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3768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Overall Effectiveness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360072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Mentioned by Michael Stephens of </a:t>
            </a:r>
            <a:endParaRPr b="0" lang="en-US" sz="20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Tame the Web”</a:t>
            </a:r>
            <a:endParaRPr b="0" lang="en-US" sz="20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http://www.tametheweb.com</a:t>
            </a:r>
            <a:endParaRPr b="0" lang="en-US" sz="20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472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Some Irish academic blog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1773360"/>
            <a:ext cx="741204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University College Dublin (academic staff blog) </a:t>
            </a:r>
            <a:r>
              <a:rPr b="1" lang="en-GB" sz="2200" spc="-1" strike="noStrike">
                <a:solidFill>
                  <a:srgbClr val="333366"/>
                </a:solidFill>
                <a:latin typeface="Arial"/>
              </a:rPr>
              <a:t>http://www.podvet.com/blogs/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University of Limerick Library </a:t>
            </a:r>
            <a:r>
              <a:rPr b="1" lang="en-GB" sz="2200" spc="-1" strike="noStrike">
                <a:solidFill>
                  <a:srgbClr val="333366"/>
                </a:solidFill>
                <a:latin typeface="Arial"/>
              </a:rPr>
              <a:t>http://ullb.blogspot.com/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Dundalk Institute of Technology Library </a:t>
            </a:r>
            <a:r>
              <a:rPr b="1" lang="en-GB" sz="2200" spc="-1" strike="noStrike">
                <a:solidFill>
                  <a:srgbClr val="333366"/>
                </a:solidFill>
                <a:latin typeface="Arial"/>
              </a:rPr>
              <a:t>http://dundalkinstitute.library-blogs.net/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1644480"/>
            <a:ext cx="82296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33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66"/>
                </a:solidFill>
                <a:latin typeface="Times New Roman"/>
              </a:rPr>
              <a:t>http://www.podvet.com/blog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38040"/>
            <a:ext cx="74120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360072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66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5616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5157720"/>
            <a:ext cx="115236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66"/>
                </a:solidFill>
                <a:latin typeface="Arial"/>
              </a:rPr>
              <a:t>Examples from the wider world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1412640"/>
            <a:ext cx="7412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66"/>
                </a:solidFill>
                <a:latin typeface="Arial"/>
              </a:rPr>
              <a:t>Some Types: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Subject specific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Acquisitions/Cataloguing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ILL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General library new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Collaborative within the profession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944640"/>
            <a:ext cx="788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23266"/>
                </a:solidFill>
                <a:latin typeface="Arial"/>
              </a:rPr>
              <a:t>Acqui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985680"/>
            <a:ext cx="7829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985680"/>
            <a:ext cx="7829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InterLibrary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878040"/>
            <a:ext cx="797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4120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What is a Blog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1052640"/>
            <a:ext cx="74120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33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from the term “Web log” invented by Jorn Barger in 1997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A website that contains entries, or “posts”, displayed in reverse chronological order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Posts often contain text, images, video and links to other websites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Readers can comment on posts, making it an interactive experience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337fcc"/>
                </a:solidFill>
                <a:latin typeface="Arial"/>
              </a:rPr>
              <a:t>Includes RSS feeds</a:t>
            </a: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Library News (Gene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985680"/>
            <a:ext cx="782784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Collaborative Blog across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878040"/>
            <a:ext cx="797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549360"/>
            <a:ext cx="74120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Blog Directories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1773360"/>
            <a:ext cx="741204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Blog Directory Wiki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&lt;http://www.blogwithoutalibrary.net&gt;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Library &amp; Information Science Wiki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333cc"/>
                </a:solidFill>
                <a:uFillTx/>
                <a:latin typeface="Verdana"/>
                <a:hlinkClick r:id="rId2"/>
              </a:rPr>
              <a:t>http://liswiki.org/wiki/Weblogs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eb86"/>
                </a:solidFill>
                <a:latin typeface="Verdana"/>
              </a:rPr>
              <a:t>Technorati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1eb86"/>
                </a:solidFill>
                <a:latin typeface="Verdana"/>
              </a:rPr>
              <a:t>http://www.technorati.com/</a:t>
            </a:r>
            <a:endParaRPr b="0" lang="en-US" sz="22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3120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fcc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9604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7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2492280"/>
            <a:ext cx="7561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Josh Clark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Tel: 01 716 76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email: joshua.clark@u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Diarmuid Stokes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Tel: 01 716 62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email: diarmuid.stokes@u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7fcc"/>
                </a:solidFill>
                <a:latin typeface="Arial"/>
              </a:rPr>
              <a:t>University College Dublin, Belfield, Dubli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41204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Blogs can be many different things….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15920"/>
            <a:ext cx="741204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Personal diary or journal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News and information service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Ongoing project report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Photo gallery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Collection of link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7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765000"/>
            <a:ext cx="74120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Why Blog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773000"/>
            <a:ext cx="741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Free and (relatively) simple!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Don’t need to be a “techie”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Effective Broadcast tool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Often quicker than your “News” page!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764640"/>
            <a:ext cx="741204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Why Blog?</a:t>
            </a:r>
            <a:endParaRPr b="0" lang="en-US" sz="32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41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Public relations &amp; library marketing tool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an be more dynamic than your website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Take advantage of “Web 2.0”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Attract and engage younger users 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(“digital natives”, or “millennials”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75920"/>
            <a:ext cx="7412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UCD Science Library Blog</a:t>
            </a:r>
            <a:br>
              <a:rPr sz="3200"/>
            </a:b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&lt;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ucdscience.blogspot.com</a:t>
            </a:r>
            <a:r>
              <a:rPr b="1" lang="en-GB" sz="2800" spc="-1" strike="noStrike">
                <a:solidFill>
                  <a:srgbClr val="33336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337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773000"/>
            <a:ext cx="74120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reated in April 2005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Uses Blogger software (free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Originally 2 librarians, now 3 team member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(Try to) update regularly  (150+ posts so far)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337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7fcc"/>
                </a:solidFill>
                <a:latin typeface="Arial"/>
              </a:rPr>
              <a:t>Covers all sciences</a:t>
            </a:r>
            <a:endParaRPr b="0" lang="en-US" sz="2800" spc="-1" strike="noStrike">
              <a:solidFill>
                <a:srgbClr val="33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0:46:33Z</dcterms:created>
  <dc:creator>Aiden Kenny</dc:creator>
  <dc:description/>
  <dc:language>en-US</dc:language>
  <cp:lastModifiedBy>UCD Library</cp:lastModifiedBy>
  <cp:lastPrinted>2005-08-24T15:39:55Z</cp:lastPrinted>
  <dcterms:modified xsi:type="dcterms:W3CDTF">2006-11-30T15:38:54Z</dcterms:modified>
  <cp:revision>77</cp:revision>
  <dc:subject/>
  <dc:title>PowerPoint Presentation</dc:title>
</cp:coreProperties>
</file>