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7A4C-9886-4F0B-B8E9-0A4DB8766A4B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0C72-6E71-4747-8BFD-B32187E938CD}" type="slidenum">
              <a:rPr b="0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148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784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548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784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548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08000" y="-171720"/>
            <a:ext cx="7236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148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148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4784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5480" y="160020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4784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5480" y="3964320"/>
            <a:ext cx="275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08000" y="-171720"/>
            <a:ext cx="7236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1480" y="396432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480" y="1600200"/>
            <a:ext cx="418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56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pt_template_01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1000" indent="-336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ppt_template_01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7" descr="NDP_pref_eng.jpg"/>
          <p:cNvPicPr/>
          <p:nvPr/>
        </p:nvPicPr>
        <p:blipFill>
          <a:blip r:embed="rId3"/>
          <a:srcRect l="17305" t="23540" r="18447" b="26043"/>
          <a:stretch/>
        </p:blipFill>
        <p:spPr>
          <a:xfrm>
            <a:off x="216000" y="6108840"/>
            <a:ext cx="971280" cy="5601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-1717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1000" indent="-336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heanet.ie/services/hosting/web-hostin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1"/>
          <p:cNvSpPr/>
          <p:nvPr/>
        </p:nvSpPr>
        <p:spPr>
          <a:xfrm>
            <a:off x="2484360" y="0"/>
            <a:ext cx="48592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Calibri"/>
                <a:ea typeface="Verdana"/>
              </a:rPr>
              <a:t>Web Hosting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3492360" y="1700280"/>
            <a:ext cx="5040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4f81bd"/>
                </a:solidFill>
                <a:latin typeface="Calibri"/>
              </a:rPr>
              <a:t>Web Hosting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4f81bd"/>
                </a:solidFill>
                <a:latin typeface="Calibri"/>
              </a:rPr>
              <a:t>Enterprise Web Ho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4f81bd"/>
                </a:solidFill>
                <a:latin typeface="Calibri"/>
              </a:rPr>
              <a:t>Moodle Hosting – (Moodle as a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4f81bd"/>
                </a:solidFill>
                <a:latin typeface="Calibri"/>
              </a:rPr>
              <a:t>Questio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http://i.istockimg.com/file_thumbview_approve/20385819/2/stock-illustration-20385819-child-head-with-symbol.jpg"/>
          <p:cNvPicPr/>
          <p:nvPr/>
        </p:nvPicPr>
        <p:blipFill>
          <a:blip r:embed="rId1"/>
          <a:stretch/>
        </p:blipFill>
        <p:spPr>
          <a:xfrm>
            <a:off x="1146240" y="1577880"/>
            <a:ext cx="2351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4572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Webhosting Overview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99640" y="907920"/>
            <a:ext cx="7993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Anet Provides Virtual Hosting services to interest groups belonging to the Higher Education and Research Communities.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8920" y="1557360"/>
          <a:ext cx="6554880" cy="4662360"/>
        </p:xfrm>
        <a:graphic>
          <a:graphicData uri="http://schemas.openxmlformats.org/drawingml/2006/table">
            <a:tbl>
              <a:tblPr/>
              <a:tblGrid>
                <a:gridCol w="1728720"/>
                <a:gridCol w="1176480"/>
                <a:gridCol w="1130040"/>
                <a:gridCol w="1258920"/>
                <a:gridCol w="12607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Bron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Sil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Mood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isk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0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ndwidth (per mon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00GB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00GB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00GB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00GB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.ie Domain Regis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ub-do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ta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-mail accou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Pv4/IPv6 Addr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ad/Write DB Fail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ron Jo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SH/SCP/S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27280" y="-171720"/>
            <a:ext cx="40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Webhosting - Plesk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32000" y="5589360"/>
            <a:ext cx="7488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ents don</a:t>
            </a:r>
            <a:r>
              <a:rPr b="1" lang="ga-IE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 have to be a webhosting expert to use it.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s client to self-manage users, subdomains, databases etc.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n install applications such as Drupal, Wordpress, Moodle etc.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ents can install a test version of a site for planning upgrades or trialing new application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5" descr="control_panel_user_view.png"/>
          <p:cNvPicPr/>
          <p:nvPr/>
        </p:nvPicPr>
        <p:blipFill>
          <a:blip r:embed="rId1"/>
          <a:srcRect l="-9638" t="0" r="-9638" b="0"/>
          <a:stretch/>
        </p:blipFill>
        <p:spPr>
          <a:xfrm>
            <a:off x="826920" y="971640"/>
            <a:ext cx="748368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920" y="-1717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Enterprise Web Hosting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50560" y="5360760"/>
            <a:ext cx="5185080" cy="6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ighly available fault tolerant architecture.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bility to grow the service as required to support additional web applications or increases in web traffic.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300320" y="971640"/>
            <a:ext cx="639900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640" y="-1717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Moodle Hosting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79280" y="5466960"/>
            <a:ext cx="6265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Virtual Learning Environment (VLE)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sted on a LAMP Stack (Linux, Apache, MySQL, PHP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ailable as an application via standard HEAnet Webhosting package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https://moodle.org/theme/image.php/moodleorgcleaned_moodleorg/theme_moodleorgcleaned/1415966684/moodle-logo"/>
          <p:cNvPicPr/>
          <p:nvPr/>
        </p:nvPicPr>
        <p:blipFill>
          <a:blip r:embed="rId1"/>
          <a:stretch/>
        </p:blipFill>
        <p:spPr>
          <a:xfrm>
            <a:off x="1959120" y="993600"/>
            <a:ext cx="1942920" cy="581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979640" y="1698480"/>
            <a:ext cx="4795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63640" y="-1717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Moodle as a Servic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2080" y="5446800"/>
            <a:ext cx="74880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ighly available fault tolerant architecture, n</a:t>
            </a: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o single point of failure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bility to grow the service as required by adding additional web-nodes and disk space.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vided with a Staging VM as a test version of your site for planning upgrades or trialing new plugins and modul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432080" y="1038240"/>
            <a:ext cx="65102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2916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Calibri"/>
              </a:rPr>
              <a:t>Questions ?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1979640" y="4653000"/>
            <a:ext cx="56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heanet.ie/services/hosting/web-h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s://d13ixav12jsd5y.cloudfront.net/wp-content/uploads/2014/01/question-answer-series.jpg"/>
          <p:cNvPicPr/>
          <p:nvPr/>
        </p:nvPicPr>
        <p:blipFill>
          <a:blip r:embed="rId2"/>
          <a:stretch/>
        </p:blipFill>
        <p:spPr>
          <a:xfrm>
            <a:off x="2484360" y="1243080"/>
            <a:ext cx="42037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46:24Z</dcterms:created>
  <dc:creator>fcoyle</dc:creator>
  <dc:description/>
  <dc:language>en-US</dc:language>
  <cp:lastModifiedBy>Aidan Carty</cp:lastModifiedBy>
  <dcterms:modified xsi:type="dcterms:W3CDTF">2014-11-18T17:45:38Z</dcterms:modified>
  <cp:revision>155</cp:revision>
  <dc:subject/>
  <dc:title>Slide 1</dc:title>
</cp:coreProperties>
</file>