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DE4-AA9D-4235-A043-1357879D318F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104-40BA-4A6E-AA50-BED32DE7FB5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D807-CD53-4A60-8DB7-081D3BD8646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326-ADB2-425A-8317-083FCF562A3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784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48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784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48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08000" y="-171720"/>
            <a:ext cx="72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784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48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784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48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08000" y="-171720"/>
            <a:ext cx="72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_template_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1000" indent="-336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ppt_template_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NDP_pref_eng.jpg"/>
          <p:cNvPicPr/>
          <p:nvPr/>
        </p:nvPicPr>
        <p:blipFill>
          <a:blip r:embed="rId3"/>
          <a:srcRect l="17305" t="23540" r="18447" b="26043"/>
          <a:stretch/>
        </p:blipFill>
        <p:spPr>
          <a:xfrm>
            <a:off x="216000" y="6108840"/>
            <a:ext cx="971280" cy="5601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1000" indent="-336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idan.carty@heanet.ie" TargetMode="External"/><Relationship Id="rId2" Type="http://schemas.openxmlformats.org/officeDocument/2006/relationships/hyperlink" Target="mailto:robert.gallagher@heanet.ie" TargetMode="External"/><Relationship Id="rId3" Type="http://schemas.openxmlformats.org/officeDocument/2006/relationships/hyperlink" Target="http://www.heanet.ie/security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Calibri"/>
                <a:ea typeface="Verdana"/>
              </a:rPr>
              <a:t>Securit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2340000" y="3284640"/>
            <a:ext cx="4825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Overview of HEAnet securit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HEAnet CERT (Computer Emergency 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Anti-Spam RBL (Real time blacklist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HEAnet TCS  ( Certificate Servic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HEAnet Vulnerability Scanning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Security Aud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Ques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1814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2200" y="0"/>
            <a:ext cx="4537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1116000" y="4149720"/>
            <a:ext cx="72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2050920" y="4581360"/>
            <a:ext cx="4969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364120" y="981000"/>
            <a:ext cx="4534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Arial"/>
              </a:rPr>
              <a:t>Internal and External securit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5076720" y="1700280"/>
            <a:ext cx="3275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Anet Security T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4f81bd"/>
                </a:solidFill>
                <a:latin typeface="Arial"/>
              </a:rPr>
              <a:t>Aidan – </a:t>
            </a:r>
            <a:r>
              <a:rPr b="0" lang="en-IE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idan.carty@heanet.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4f81bd"/>
                </a:solidFill>
                <a:latin typeface="Arial"/>
              </a:rPr>
              <a:t>Robert - </a:t>
            </a:r>
            <a:r>
              <a:rPr b="0" lang="en-IE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robert.gallagher@heanet.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heanet.ie/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1258920" y="1413000"/>
            <a:ext cx="3744720" cy="281304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2"/>
          <p:cNvSpPr/>
          <p:nvPr/>
        </p:nvSpPr>
        <p:spPr>
          <a:xfrm>
            <a:off x="1258920" y="4365720"/>
            <a:ext cx="78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ypical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Firewalls, Patching, VPN e.g DR-IDP, Auditing new services,  attacks against HEAnet infra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Security advice to clients (e.g. Security appliance tenders ) and providing security based servi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Liaising with other CERT teams, NRENs and Government depar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Security Workshops and Tr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HEAnet CER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1403280" y="4653000"/>
            <a:ext cx="64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Prov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Incident Response, support and advice to institution IT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Incidents include DDOS, Malware, Copyright and general AUP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The HEAnet CERT is in conjunction with JA.net CSI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3439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Anti-spam servic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1476360" y="1268280"/>
            <a:ext cx="662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Real-time IP lookup service for institution Email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Based on DNS lookups of “bad”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Uses commercial vendors </a:t>
            </a:r>
            <a:r>
              <a:rPr b="1" lang="en-IE" sz="1800" spc="-1" strike="noStrike">
                <a:solidFill>
                  <a:srgbClr val="7f7f7f"/>
                </a:solidFill>
                <a:latin typeface="Calibri"/>
              </a:rPr>
              <a:t>SpamHaus.org</a:t>
            </a: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 and </a:t>
            </a:r>
            <a:r>
              <a:rPr b="1" lang="en-IE" sz="1800" spc="-1" strike="noStrike">
                <a:solidFill>
                  <a:srgbClr val="7f7f7f"/>
                </a:solidFill>
                <a:latin typeface="Calibri"/>
              </a:rPr>
              <a:t>TrendMicr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Significant reduction in spam (IP based, email not even proces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Calibri"/>
              </a:rPr>
              <a:t>Use beyond email, general defense against bot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39020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TCS - Certificates servic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2744640" y="1542960"/>
            <a:ext cx="3699000" cy="2462400"/>
          </a:xfrm>
          <a:prstGeom prst="rect">
            <a:avLst/>
          </a:prstGeom>
          <a:ln w="0">
            <a:noFill/>
          </a:ln>
        </p:spPr>
      </p:pic>
      <p:sp>
        <p:nvSpPr>
          <p:cNvPr id="104" name="Content Placeholder 2"/>
          <p:cNvSpPr/>
          <p:nvPr/>
        </p:nvSpPr>
        <p:spPr>
          <a:xfrm>
            <a:off x="1593720" y="4076640"/>
            <a:ext cx="62182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Calibri"/>
              </a:rPr>
              <a:t>Usage categories include: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4f81bd"/>
                </a:solidFill>
                <a:latin typeface="Calibri"/>
              </a:rPr>
              <a:t>Servers, Web applications and network devic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4f81bd"/>
                </a:solidFill>
                <a:latin typeface="Calibri"/>
              </a:rPr>
              <a:t>Code Signing Certificates for Ap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4f81bd"/>
                </a:solidFill>
                <a:latin typeface="Calibri"/>
              </a:rPr>
              <a:t>Personal Email certific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4f81bd"/>
                </a:solidFill>
                <a:latin typeface="Calibri"/>
              </a:rPr>
              <a:t>eScience (High Performance Computing group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4f81bd"/>
                </a:solidFill>
                <a:latin typeface="Calibri"/>
              </a:rPr>
              <a:t>TCS service uses a self service por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4f81bd"/>
                </a:solidFill>
                <a:latin typeface="Calibri"/>
              </a:rPr>
              <a:t>( Currently 2,500+ certificates across 45 clients, with 120+ user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4f81bd"/>
                </a:solidFill>
                <a:latin typeface="Calibri"/>
              </a:rPr>
              <a:t>Available to any individuals nominated by IT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960120" y="1052640"/>
            <a:ext cx="74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Arial"/>
              </a:rPr>
              <a:t>Provide a range of no-cost SSL certificates, signed by leading CA - Com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Vulnerability Scanning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124000" y="98100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4f81bd"/>
                </a:solidFill>
                <a:latin typeface="Arial"/>
              </a:rPr>
              <a:t>A web based vulnerability scanning service </a:t>
            </a:r>
            <a:br>
              <a:rPr sz="1800"/>
            </a:br>
            <a:r>
              <a:rPr b="1" lang="en-IE" sz="1800" spc="-1" strike="noStrike">
                <a:solidFill>
                  <a:srgbClr val="4f81bd"/>
                </a:solidFill>
                <a:latin typeface="Arial"/>
              </a:rPr>
              <a:t>using the commercial version of </a:t>
            </a:r>
            <a:r>
              <a:rPr b="1" lang="en-IE" sz="1800" spc="-1" strike="noStrike">
                <a:solidFill>
                  <a:srgbClr val="7f7f7f"/>
                </a:solidFill>
                <a:latin typeface="Arial"/>
              </a:rPr>
              <a:t>Outpost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1476360" y="5157720"/>
            <a:ext cx="669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Scanning of institution networks and a view from out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Ongoing Reports, Metrics and Del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Internal Scanning Appliance for Campu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Framework Agreement for large number of IPs and PCI compliance 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Offerred to IT depar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024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4788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Security Auditing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1476360" y="4941720"/>
            <a:ext cx="56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ypical engag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Auditing of infrastructure (servers, routers, fire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Auditing of Web Applications (Web farm, Internal applic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Auditing of Virtualisation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Chargeab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258920" y="11253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4f81bd"/>
                </a:solidFill>
                <a:latin typeface="Calibri"/>
              </a:rPr>
              <a:t>An on-site security audit of HEAnet client’s infrastructure or applications, including documentation, vulnerability assessment and security recommend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489400" y="558972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7030a0"/>
                </a:solidFill>
                <a:latin typeface="Arial"/>
              </a:rPr>
              <a:t>http://www.heanet.ie/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58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Questions ?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46:24Z</dcterms:created>
  <dc:creator>fcoyle</dc:creator>
  <dc:description/>
  <dc:language>en-US</dc:language>
  <cp:lastModifiedBy>Glenn Wearen</cp:lastModifiedBy>
  <dcterms:modified xsi:type="dcterms:W3CDTF">2014-11-19T11:39:43Z</dcterms:modified>
  <cp:revision>134</cp:revision>
  <dc:subject/>
  <dc:title>Slide 1</dc:title>
</cp:coreProperties>
</file>