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891-5364-451E-A480-27D8C61F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692-C206-4F22-9D77-5BF2D5BE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781-4212-43EA-BEA4-3F4678A6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E35-AD19-4FC0-BBFB-9B128F0F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C21C-51A9-4289-8FD0-D30C7AC5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88A9-6FEC-4774-B34C-69761855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E9AD-DEF6-4059-9441-21D07A6C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4198-E3B0-4995-9B65-981D56D8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4EF1-0689-4320-8F06-E2F7897F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1100-08B2-45F4-974A-EFDC3FE3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1D3A-91C0-45D7-9EED-D9C0C120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759-B8B7-45C4-9BF4-AC8C55EA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C0BF-8CD4-42CC-A20C-AB786E76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6DE6-242D-4F4E-B62C-66CB15E1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955E-FB5D-4657-A0D0-4835F249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68EF-7DE8-40C7-ADF1-0A9CE85D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4023-686F-4464-96B6-73450C15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973-A9A7-407D-90B7-F3F2D299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34C-3C96-44A2-93D5-6E14607B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7D5-8DBE-412D-8935-81928BE6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D42-C26A-4415-AD51-1F4B9109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3D6-AE8C-452C-8AA0-4CD318AE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546-BB85-42FA-B75F-3782B378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CC9-FCBC-499E-8543-B66B26D7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93C5-0DA6-4FA2-AFDE-80FBC094E8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DDA5-752C-4C5D-8276-B530DE26B36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515f7b"/>
                </a:solidFill>
                <a:latin typeface="Tahoma"/>
              </a:rPr>
              <a:t>Acquiring &amp; accessing e-books DkIT’s experience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Claire Kenn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claire.kenny@dkit.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ahoma"/>
              </a:rPr>
              <a:t>LIR Annual Semin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ahoma"/>
              </a:rPr>
              <a:t>March 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" y="5695920"/>
            <a:ext cx="1733400" cy="1090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91520" y="6019920"/>
            <a:ext cx="690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515f7b"/>
                </a:solidFill>
                <a:latin typeface="Tahoma"/>
              </a:rPr>
              <a:t>DkIT’s E-book Collections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Saf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Net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Dawsone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SO 9001:2008 K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Tahoma"/>
              </a:rPr>
              <a:t>Increase e-book percentage of coll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6553080"/>
            <a:ext cx="5486400" cy="763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6553080"/>
            <a:ext cx="1066680" cy="763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080" y="6294600"/>
            <a:ext cx="89532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515f7b"/>
                </a:solidFill>
                <a:latin typeface="Tahoma"/>
              </a:rPr>
              <a:t>Safari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rimarily computing, creative media and business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Subscription to 50 sl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itles can be replaced when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Useful for this type of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Single access point plus individual titles in the catalog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Usage is 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Is this a subject-specific issu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2977" t="18709" r="71878" b="73808"/>
          <a:stretch/>
        </p:blipFill>
        <p:spPr>
          <a:xfrm>
            <a:off x="7238880" y="5970600"/>
            <a:ext cx="1632240" cy="479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28800" y="6553080"/>
            <a:ext cx="5486400" cy="763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6553080"/>
            <a:ext cx="1676520" cy="763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9080" y="6294600"/>
            <a:ext cx="89532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515f7b"/>
                </a:solidFill>
                <a:latin typeface="Tahoma"/>
              </a:rPr>
              <a:t>NetLibrary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Multi-disciplinary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itles are purchased individ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erpetual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otal price = list price + access fee + V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Single access point plus individual titles in the catalog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Usage is satisfactory for nursing content in particu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5008" t="21796" r="79830" b="68974"/>
          <a:stretch/>
        </p:blipFill>
        <p:spPr>
          <a:xfrm>
            <a:off x="7391520" y="5881680"/>
            <a:ext cx="1495440" cy="530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28800" y="6553080"/>
            <a:ext cx="5486400" cy="763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6553080"/>
            <a:ext cx="2666880" cy="763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9080" y="6294600"/>
            <a:ext cx="89532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515f7b"/>
                </a:solidFill>
                <a:latin typeface="Tahoma"/>
              </a:rPr>
              <a:t>Dawsonera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Multi-disciplinary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itles are purchased individ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erpetual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otal price = list price + access fee + V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ssues with implementation and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IP recognition, off-campus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No usage figures y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43800" y="5762520"/>
            <a:ext cx="1330200" cy="579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28800" y="6553080"/>
            <a:ext cx="5486400" cy="763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6553080"/>
            <a:ext cx="3657600" cy="763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9080" y="6294600"/>
            <a:ext cx="89532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515f7b"/>
                </a:solidFill>
                <a:latin typeface="Tahoma"/>
              </a:rPr>
              <a:t>Ebrary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Multi-disciplinary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Subscription to the Academic Complete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Additional titles may be purchased individ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erpetual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Single access point. What should be added to the catalogu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Marketing campaign should furth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ncrease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3574" t="18709" r="73104" b="72952"/>
          <a:stretch/>
        </p:blipFill>
        <p:spPr>
          <a:xfrm>
            <a:off x="7391520" y="5867280"/>
            <a:ext cx="1487520" cy="533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828800" y="6553080"/>
            <a:ext cx="5486400" cy="763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6553080"/>
            <a:ext cx="4495680" cy="763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9080" y="6294600"/>
            <a:ext cx="89532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515f7b"/>
                </a:solidFill>
                <a:latin typeface="Tahoma"/>
              </a:rPr>
              <a:t>Considerations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Cost effectiveness – price vs. expect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VAT @ 21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erpetual access vs. subscription-based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rice differences across produ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Remote access and end-user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Close co-ordination between acquisitions librarian and systems librarian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Acquisition is only the first st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6553080"/>
            <a:ext cx="5486400" cy="763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080" y="6294600"/>
            <a:ext cx="89532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aire Kenny</cp:lastModifiedBy>
  <dcterms:modified xsi:type="dcterms:W3CDTF">2011-03-21T11:51:3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