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2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D2F6-A5B7-4055-A462-F408AA477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CD9E-46CA-459F-B11E-427EB8D00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B73-7168-43D5-9E2E-E1EC85560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AD3A-F204-45CA-BF81-FCB44A2A8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2F0-1A57-42F1-BDCF-CA043D657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CAC-764A-4EC8-81C3-328813502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4895-155F-4BEA-8475-160BF629F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F2D7-8096-4919-B5B7-39D87972C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6800-53A5-4009-A280-3351FEFD5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C2C-4A50-4507-B2A4-D04A4B03A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A7C1-6833-437A-8D8E-64AD46BA5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37A5-6B2C-4B30-B7CD-A6221DB36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37F-8094-4EF7-B3FF-0936AD0CA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53FA-221A-4A34-B775-5EF359170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1D5-B970-4637-9F7A-0B93493A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CBA-3809-44C9-A0C2-2AAB111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F81-9369-4AEB-8262-4C38E23D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C4D-B91F-43D9-8B49-854BF4F3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D74B-1569-4FCA-88C2-E3DA9265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C0CD-866E-41EF-BACE-89EA5339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FC8-9826-4FF8-BCB3-EA5700B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0CC3-DE0F-47F6-8C3A-2E3EC013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258D-D185-491C-BCB4-E610DAD3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70FA-C8AB-4078-A8DE-F8CC0C71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F09F-9B13-4CFA-84B8-2D5C0DE7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FAF-2128-44F1-8390-D335474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F8E-05CF-455A-A525-769A54F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6258-6604-42A5-90A8-94C88C4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8C5-09E7-4ED3-908F-6E1CD9F6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C39-F912-4F03-819B-5033E78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8FEA-EAE0-4870-AC10-E58A2DB4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FE0D-CD66-43CF-984B-694F20A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3EC3-A74A-42B0-B5F4-5A7ED69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7AF3-919F-4F7C-BC65-1ECE5BD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78F5-4B36-4286-8E3C-3F5532A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41E6-0D27-4771-8367-BD693BF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2EA-D446-4DC5-8460-9CC8139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8DDF-0B0F-48AA-A752-D6BA29D5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7A06-1989-4D03-90F3-E784313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9C09-BD76-43E5-B93D-2448381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A99B-C263-4550-9D1F-A51328F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706C-E8FA-4F3E-8F98-38568982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0E01-D31E-4523-8AB2-268325A7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4BA1-953E-462F-BD7F-3C6C164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0BD-4C75-4547-8664-1E73FF9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349-9B50-43C2-85F9-1FC338DD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AE4-182C-4251-B5EB-27462A58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407-5127-4A30-AF50-749072E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18C-5992-462B-8C73-9EB9D08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44D-A1CA-437F-912D-6986336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4BE-1BDB-4F1B-AAF6-AEE308E60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9CDC-0402-4143-A6A5-4D3B80423C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3F2-C13E-4699-A25B-C2C5E9EF29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2.ul.ie/web/WWW/Services/Library/How_Do_I_.../Borrow_Ebook_Readers" TargetMode="External"/><Relationship Id="rId2" Type="http://schemas.openxmlformats.org/officeDocument/2006/relationships/hyperlink" Target="http://www2.ul.ie/pdf/729995243.pdf" TargetMode="External"/><Relationship Id="rId3" Type="http://schemas.openxmlformats.org/officeDocument/2006/relationships/hyperlink" Target="http://www2.ul.ie/pdf/502728243.pdf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ichelle.breen@ul.i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252360" y="1917720"/>
            <a:ext cx="8639280" cy="264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Franklin Gothic Book"/>
              </a:rPr>
              <a:t>If we lend them will they come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br>
              <a:rPr sz="3500"/>
            </a:b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Experiences of lending ebook readers at 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Glucksman Library, UL.</a:t>
            </a:r>
            <a:r>
              <a:rPr b="1" i="1" lang="en-US" sz="4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Library_Logo_White"/>
          <p:cNvPicPr/>
          <p:nvPr/>
        </p:nvPicPr>
        <p:blipFill>
          <a:blip r:embed="rId1"/>
          <a:stretch/>
        </p:blipFill>
        <p:spPr>
          <a:xfrm>
            <a:off x="7380360" y="6308640"/>
            <a:ext cx="171432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ster"/>
          <p:cNvPicPr/>
          <p:nvPr/>
        </p:nvPicPr>
        <p:blipFill>
          <a:blip r:embed="rId1"/>
          <a:srcRect l="0" t="0" r="0" b="392"/>
          <a:stretch/>
        </p:blipFill>
        <p:spPr>
          <a:xfrm>
            <a:off x="1554120" y="25560"/>
            <a:ext cx="5970600" cy="683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Launched September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Library_Logo_White"/>
          <p:cNvPicPr/>
          <p:nvPr/>
        </p:nvPicPr>
        <p:blipFill>
          <a:blip r:embed="rId1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Launch event 1.jpg"/>
          <p:cNvPicPr/>
          <p:nvPr/>
        </p:nvPicPr>
        <p:blipFill>
          <a:blip r:embed="rId2"/>
          <a:stretch/>
        </p:blipFill>
        <p:spPr>
          <a:xfrm>
            <a:off x="755640" y="2498760"/>
            <a:ext cx="3745080" cy="2874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Launch event 3.jpg"/>
          <p:cNvPicPr/>
          <p:nvPr/>
        </p:nvPicPr>
        <p:blipFill>
          <a:blip r:embed="rId3"/>
          <a:stretch/>
        </p:blipFill>
        <p:spPr>
          <a:xfrm>
            <a:off x="5148360" y="1700280"/>
            <a:ext cx="2950920" cy="44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Borrowing arran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Tested by library staff before le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Provided basic staff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 u="sng">
                <a:solidFill>
                  <a:srgbClr val="009999"/>
                </a:solidFill>
                <a:uFillTx/>
                <a:latin typeface="Franklin Gothic Book"/>
                <a:hlinkClick r:id="rId1"/>
              </a:rPr>
              <a:t>Webpage 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to support ereaders, Youtube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7 day lo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Late returns attract standard library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 u="sng">
                <a:solidFill>
                  <a:srgbClr val="009999"/>
                </a:solidFill>
                <a:uFillTx/>
                <a:latin typeface="Franklin Gothic Book"/>
                <a:hlinkClick r:id="rId2"/>
              </a:rPr>
              <a:t>Liability 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rests with borrower for damage/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 u="sng">
                <a:solidFill>
                  <a:srgbClr val="009999"/>
                </a:solidFill>
                <a:uFillTx/>
                <a:latin typeface="Franklin Gothic Book"/>
                <a:hlinkClick r:id="rId3"/>
              </a:rPr>
              <a:t>Survey 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handed out upon retu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Library_Logo_White"/>
          <p:cNvPicPr/>
          <p:nvPr/>
        </p:nvPicPr>
        <p:blipFill>
          <a:blip r:embed="rId4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Who is borrowing the erea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5" descr="Library_Logo_White"/>
          <p:cNvPicPr/>
          <p:nvPr/>
        </p:nvPicPr>
        <p:blipFill>
          <a:blip r:embed="rId1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Object 43"/>
          <p:cNvGraphicFramePr/>
          <p:nvPr/>
        </p:nvGraphicFramePr>
        <p:xfrm>
          <a:off x="34920" y="1628640"/>
          <a:ext cx="900900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628640"/>
                    <a:ext cx="9009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Project cos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10 ereaders @ €289 each  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€2,8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Printing logo on sleeves, posters  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€3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23 Waterstones ebooks 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€4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Total 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IE" sz="3000" spc="-1" strike="noStrike">
                <a:solidFill>
                  <a:srgbClr val="000000"/>
                </a:solidFill>
                <a:latin typeface="Franklin Gothic Book"/>
              </a:rPr>
              <a:t>€3,6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Paid for by funding sourced throu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UL UlsterBank Student Enablement Fu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Feedback on our experi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Aware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mbedded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Mark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What did people th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Very good especially if you have bad eyesigh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More titles pl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I found it dark – I felt I wanted to control the contrast all the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Would have preferred an illuminated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Possibly instructions should have been prov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It’s great having almost a whole library in your h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It was unclear to me how to check what books are available to read on the er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Franklin Gothic Book"/>
              </a:rPr>
              <a:t>I would love to try out an iPa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What have we learned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Lending time should be 2 weeks minim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hould list individual titles in cata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Installed CALIBRE for student PCs in library – was not nece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No issue with late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ry iPads next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Please get in touch if you want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ask me anything about 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experiences with these er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chelle.breen@ul.ie</a:t>
            </a:r>
            <a:r>
              <a:rPr b="1" i="1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ibrary_Logo_White"/>
          <p:cNvPicPr/>
          <p:nvPr/>
        </p:nvPicPr>
        <p:blipFill>
          <a:blip r:embed="rId2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dditional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Zimerman, M.  2011 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E-readers in an academic library setting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Library Hi-Tech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, Vol. 29, No. 1,  2011, pp. 91-10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Drinkwater, K. 2010 E-book readers: what are librarians to make of them. </a:t>
            </a:r>
            <a:r>
              <a:rPr b="0" i="1" lang="en-IE" sz="3000" spc="-1" strike="noStrike">
                <a:solidFill>
                  <a:srgbClr val="000000"/>
                </a:solidFill>
                <a:latin typeface="Franklin Gothic Book"/>
              </a:rPr>
              <a:t>SCONUL Focus,</a:t>
            </a: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 No. 50, pp. 15-2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Why did UL buy ebook re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8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Growing ebook col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Promote use of e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Technology aware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xperimenta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nhance access to digital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Improve service offerings at a relatively low c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any ebook readers 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8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Samsung’s Papy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Irex Ili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Fujitsu Flep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Hanlin er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Foxit eSlick r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Interead Cool-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Polymer Vision’s Readi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The Nook </a:t>
            </a:r>
            <a:r>
              <a:rPr b="0" i="1" lang="en-IE" sz="3000" spc="-1" strike="noStrike">
                <a:solidFill>
                  <a:srgbClr val="000000"/>
                </a:solidFill>
                <a:latin typeface="Franklin Gothic Book"/>
              </a:rPr>
              <a:t>(Barnes &amp; No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ibrary_Logo_White"/>
          <p:cNvPicPr/>
          <p:nvPr/>
        </p:nvPicPr>
        <p:blipFill>
          <a:blip r:embed="rId1"/>
          <a:stretch/>
        </p:blipFill>
        <p:spPr>
          <a:xfrm>
            <a:off x="7394400" y="6308640"/>
            <a:ext cx="1714680" cy="5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0"/>
          <p:cNvSpPr/>
          <p:nvPr/>
        </p:nvSpPr>
        <p:spPr>
          <a:xfrm>
            <a:off x="1690560" y="1700280"/>
            <a:ext cx="1729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Franklin Gothic Book"/>
              </a:rPr>
              <a:t>Amazon Ki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722920" y="1698480"/>
            <a:ext cx="18734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Franklin Gothic Book"/>
              </a:rPr>
              <a:t>SONY PRS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835280" y="4411800"/>
            <a:ext cx="1296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Franklin Gothic Book"/>
              </a:rPr>
              <a:t>Apple i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Options 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0" descr="pad"/>
          <p:cNvPicPr/>
          <p:nvPr/>
        </p:nvPicPr>
        <p:blipFill>
          <a:blip r:embed="rId1"/>
          <a:stretch/>
        </p:blipFill>
        <p:spPr>
          <a:xfrm>
            <a:off x="1692360" y="4879800"/>
            <a:ext cx="1814400" cy="1357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kindle"/>
          <p:cNvPicPr/>
          <p:nvPr/>
        </p:nvPicPr>
        <p:blipFill>
          <a:blip r:embed="rId2"/>
          <a:stretch/>
        </p:blipFill>
        <p:spPr>
          <a:xfrm>
            <a:off x="1763640" y="22050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PRS 600"/>
          <p:cNvPicPr/>
          <p:nvPr/>
        </p:nvPicPr>
        <p:blipFill>
          <a:blip r:embed="rId3"/>
          <a:stretch/>
        </p:blipFill>
        <p:spPr>
          <a:xfrm>
            <a:off x="6039000" y="2244600"/>
            <a:ext cx="125712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20051022203016Question_mark_alternate-237x300"/>
          <p:cNvPicPr/>
          <p:nvPr/>
        </p:nvPicPr>
        <p:blipFill>
          <a:blip r:embed="rId4"/>
          <a:stretch/>
        </p:blipFill>
        <p:spPr>
          <a:xfrm>
            <a:off x="6105600" y="4737240"/>
            <a:ext cx="1130400" cy="142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Library_Logo_White"/>
          <p:cNvPicPr/>
          <p:nvPr/>
        </p:nvPicPr>
        <p:blipFill>
          <a:blip r:embed="rId5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Why SONY PRS6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stablished br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asy to use and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SONY retail outlet in Limeri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Will play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xperience of other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No Wi-fi capabi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No network compatibility conc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Library_Logo_White"/>
          <p:cNvPicPr/>
          <p:nvPr/>
        </p:nvPicPr>
        <p:blipFill>
          <a:blip r:embed="rId1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Slots on PRS 600"/>
          <p:cNvPicPr/>
          <p:nvPr/>
        </p:nvPicPr>
        <p:blipFill>
          <a:blip r:embed="rId1"/>
          <a:stretch/>
        </p:blipFill>
        <p:spPr>
          <a:xfrm>
            <a:off x="5110200" y="4581360"/>
            <a:ext cx="3133800" cy="1873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an scribble on screen"/>
          <p:cNvPicPr/>
          <p:nvPr/>
        </p:nvPicPr>
        <p:blipFill>
          <a:blip r:embed="rId2"/>
          <a:stretch/>
        </p:blipFill>
        <p:spPr>
          <a:xfrm>
            <a:off x="792000" y="4581360"/>
            <a:ext cx="3132360" cy="187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Its a touch screen"/>
          <p:cNvPicPr/>
          <p:nvPr/>
        </p:nvPicPr>
        <p:blipFill>
          <a:blip r:embed="rId3"/>
          <a:stretch/>
        </p:blipFill>
        <p:spPr>
          <a:xfrm>
            <a:off x="5148360" y="1905120"/>
            <a:ext cx="3051000" cy="2087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No DC charger"/>
          <p:cNvPicPr/>
          <p:nvPr/>
        </p:nvPicPr>
        <p:blipFill>
          <a:blip r:embed="rId4"/>
          <a:stretch/>
        </p:blipFill>
        <p:spPr>
          <a:xfrm>
            <a:off x="684360" y="1616040"/>
            <a:ext cx="3743280" cy="2749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SONY PRS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5" descr="Library_Logo_White"/>
          <p:cNvPicPr/>
          <p:nvPr/>
        </p:nvPicPr>
        <p:blipFill>
          <a:blip r:embed="rId5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Choosing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Supply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Digital Rights Management (DR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Number of er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Experimental nature of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Scope of library t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Franklin Gothic Book"/>
              </a:rPr>
              <a:t>Ability of borrowers to load own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ibrary_Logo_White"/>
          <p:cNvPicPr/>
          <p:nvPr/>
        </p:nvPicPr>
        <p:blipFill>
          <a:blip r:embed="rId1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125 free ebooks with each er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Free ebooks when you register"/>
          <p:cNvPicPr/>
          <p:nvPr/>
        </p:nvPicPr>
        <p:blipFill>
          <a:blip r:embed="rId1"/>
          <a:stretch/>
        </p:blipFill>
        <p:spPr>
          <a:xfrm>
            <a:off x="1042920" y="1554120"/>
            <a:ext cx="6985080" cy="5259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Library_Logo_White"/>
          <p:cNvPicPr/>
          <p:nvPr/>
        </p:nvPicPr>
        <p:blipFill>
          <a:blip r:embed="rId2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2" descr="Library_Logo_White"/>
          <p:cNvPicPr/>
          <p:nvPr/>
        </p:nvPicPr>
        <p:blipFill>
          <a:blip r:embed="rId1"/>
          <a:stretch/>
        </p:blipFill>
        <p:spPr>
          <a:xfrm>
            <a:off x="7429680" y="6353280"/>
            <a:ext cx="1714320" cy="504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Purchased ebooks from Waterst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The Road Home"/>
          <p:cNvPicPr/>
          <p:nvPr/>
        </p:nvPicPr>
        <p:blipFill>
          <a:blip r:embed="rId2"/>
          <a:stretch/>
        </p:blipFill>
        <p:spPr>
          <a:xfrm>
            <a:off x="6948360" y="3933720"/>
            <a:ext cx="184464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others and sons"/>
          <p:cNvPicPr/>
          <p:nvPr/>
        </p:nvPicPr>
        <p:blipFill>
          <a:blip r:embed="rId3"/>
          <a:stretch/>
        </p:blipFill>
        <p:spPr>
          <a:xfrm>
            <a:off x="826920" y="4076640"/>
            <a:ext cx="191160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Finkler Question"/>
          <p:cNvPicPr/>
          <p:nvPr/>
        </p:nvPicPr>
        <p:blipFill>
          <a:blip r:embed="rId4"/>
          <a:stretch/>
        </p:blipFill>
        <p:spPr>
          <a:xfrm>
            <a:off x="3419640" y="4221000"/>
            <a:ext cx="266508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secret scripture"/>
          <p:cNvPicPr/>
          <p:nvPr/>
        </p:nvPicPr>
        <p:blipFill>
          <a:blip r:embed="rId5"/>
          <a:stretch/>
        </p:blipFill>
        <p:spPr>
          <a:xfrm>
            <a:off x="6972480" y="1484280"/>
            <a:ext cx="1409400" cy="201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Wolf Hall"/>
          <p:cNvPicPr/>
          <p:nvPr/>
        </p:nvPicPr>
        <p:blipFill>
          <a:blip r:embed="rId6"/>
          <a:stretch/>
        </p:blipFill>
        <p:spPr>
          <a:xfrm>
            <a:off x="4500720" y="2276640"/>
            <a:ext cx="2376360" cy="1915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Parrott and olivier"/>
          <p:cNvPicPr/>
          <p:nvPr/>
        </p:nvPicPr>
        <p:blipFill>
          <a:blip r:embed="rId7"/>
          <a:stretch/>
        </p:blipFill>
        <p:spPr>
          <a:xfrm>
            <a:off x="611280" y="1700280"/>
            <a:ext cx="164772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Childrens book"/>
          <p:cNvPicPr/>
          <p:nvPr/>
        </p:nvPicPr>
        <p:blipFill>
          <a:blip r:embed="rId8"/>
          <a:stretch/>
        </p:blipFill>
        <p:spPr>
          <a:xfrm>
            <a:off x="3059280" y="1557360"/>
            <a:ext cx="140940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44:07Z</dcterms:created>
  <dc:creator>Elaine O'Connell</dc:creator>
  <dc:description/>
  <dc:language>en-US</dc:language>
  <cp:lastModifiedBy>Your User Name</cp:lastModifiedBy>
  <dcterms:modified xsi:type="dcterms:W3CDTF">2011-03-25T08:30:39Z</dcterms:modified>
  <cp:revision>48</cp:revision>
  <dc:subject/>
  <dc:title>Slide 1</dc:title>
</cp:coreProperties>
</file>