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B66-E67D-4408-8008-9B25A86A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AB3-D579-4530-9457-B235888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0E5-09C8-4809-9F47-55F700D5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EF4-340F-47BD-A7E5-4C8FDE6A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834E7-8193-47BE-8454-C8CCD313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D799D-4F04-4668-ABFD-69CDE750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1870-B7D9-4F54-B0CB-8524906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4EBB-5B11-4E18-9A78-C39CBF8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54BC-59D7-4F53-9FA5-E06CAF0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03E88-356D-40A4-B020-DDB7E2E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D5378-89AE-4EF5-95BD-6C2A8C4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FC6-6A8B-420D-A663-C545A32F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B0A9-0BF7-46F2-954E-D42B0AE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BC063-FBA9-4E67-82AE-CFAECCF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1C42E-7492-45A8-8240-B7745FDE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6E9A-F5FE-414B-9BFB-E5B0974D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7127-CAD8-4196-A595-A5147906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7E4-E6D9-459A-8672-83A90BF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75F-AB90-4544-ABB4-48E9C3B8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4B0-3055-4B36-A972-907728DE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9EA-4CAC-4A37-98CA-1349660F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60E-7486-410D-B109-87761A0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481-6D88-4C3D-BDB3-FF104D5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0F9-FB56-4C8E-A718-0053307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D2D-1C8F-40C8-8570-5FD0D369B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BD0-B806-43EA-BAAF-69123F96F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LIR Annual Seminar 2008 - Empowering our users"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ichael Now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storical Disruptive Technolo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Steam Looms, Ludd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Marconi refused a grant for wir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Electric Light v Candle Manufa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Motorcars, farriers, blacksmiths, UK Red Flag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Transistor Rad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Digital Cam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iPods and the music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Mobile Phones and land line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tudent Expec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stant Gra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lways On”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nytime Anywhere Any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ll of life is Sel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pect Student services to be simi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tudent Internet Exper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rish Times recently reported that broadband usage was highest amongst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f it is not on the internet it doesn’t ex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f it is not in Google it doesn’t ex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s your library catalogue searchable through Goog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tudent Internet Expec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n a broadband connection, a student can technically do any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 College a number of restrictions are usually applied to internet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orporate” responsibilities and “Acceptable Use” principles a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SP covered by Telecom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Copyright Probl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llegal fil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P3 and video downl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nocent” exposure of copyright mate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angers” of peer-to-peer P2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eaction is to block things like Bittorrent and Sk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What are Students Carry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obile Ph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mart Ph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P3 p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Lightweight Lapt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Lightweight Lapto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SUS EEE &lt; 1Kg &lt; €370 – solid state dis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56000" y="3041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Lightweight Lapto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pple MacBook Air – solid state dis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356000" y="2565360"/>
            <a:ext cx="39592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ternet enabled P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2072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pple iPod Tou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32GB Flash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W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et Brow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mail on the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Personal Technology as an Enabler for Stud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How students are using and expecting to use technology in the total experience at third level institutions in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s it an MP3 player or a ph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59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Libraries of the Fu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Today - Warm, Polic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ove to “Learning Centr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The Saltire Centre at Glasgow Caledonian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The “Mezzanine Learning Café” at D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Traditional Institutional Respon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n Mob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n tal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n Eating, Dri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n Lapt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n MP3, iPod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f we don’t provide it, it cannot be any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f we don’t allow it, it cannot be any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 sliding window view on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Why do institutions put very expensive phones on de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Why do institutions invest heavily in providing student e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stitution’s Luddite Attitu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Long after the telephone was invented and reached universal adoption, which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 level institution provides telephone support to student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ome institutions require their students to purchase packs of notes in printed form on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What Can Services 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Provide leadership in keeping up with demands of u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Look at new technology developments, especially in the consumer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loud Computing, do you really care where your LMS is ho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36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Technology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mazon Ki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Phone and iPod Touch (one is usually banned and the other permitted in a libra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3” Skype Ph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kia (and others) WiFi 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obile Broadb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Pace of technology change is acceler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rrent wave of technology is consumer 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ervice providers must be agile in spotting at adapting or adopting new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Look for Disruptive Technologies that may enhance the learning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Digital Natives &amp; Millen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tudents today have never known a world without computers and information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et arrived in 1991 to Irish 3</a:t>
            </a:r>
            <a:r>
              <a:rPr b="0" lang="en-IE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pect a service from their College that corresponds to services available elsew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mbrace Disruptive Technolo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Digital Immigr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ost of u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ost Service Prov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Generally slow to adapt and ado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Have a wealth of experience as to why to say “no” “forbid”, “block” or “ban” new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hun disruptive inno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The Big Catch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or Security Reas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or Legal Reaso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bout as meaningful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ounter closed, back in 10 minut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Disruptive Tech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layton Cristensen's ”The Innovator's Dilemm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ay be lower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Usually Che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ay be simp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ay be more conven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May target lateral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1:26:38Z</dcterms:created>
  <dc:creator>Michael Nowlan</dc:creator>
  <dc:description/>
  <dc:language>en-US</dc:language>
  <cp:lastModifiedBy>Michael Nowlan</cp:lastModifiedBy>
  <dcterms:modified xsi:type="dcterms:W3CDTF">2008-04-10T17:25:50Z</dcterms:modified>
  <cp:revision>14</cp:revision>
  <dc:subject/>
  <dc:title>"LIR Annual Seminar 2008 - Empowering our users"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