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5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20520" y="754200"/>
            <a:ext cx="5033880" cy="377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6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7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9C1A408-36A1-401C-A595-5DB450E0FB3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481D668-5144-4E90-BE12-2D50AA9890F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8FFBC78-D1CD-49BE-9DDF-C771E94CBC9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9BDA928-ECC2-44E9-9D55-18987A9189F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CFDD340-F229-4832-A4FF-78F106434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383BAB4-1C9B-4C0B-9960-BB4B35AE3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A89A1F0-E121-4372-AAA3-30D4048125A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12FA81C-CA60-48EA-8DEE-9A79C6CE470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3137469-F184-42FD-8788-E0001E4D2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38B3C6C-D540-4DF4-8809-E2294013E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59E38C6-90DB-4879-99CC-7D44D4259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6E13B40-A349-41E2-9973-5A6757A2D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A77E72A-0AD1-4A0F-A509-0233F234547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936644A-869C-42AE-B5FE-9485382CD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77671CE-44B6-4949-95F6-D04E39C17B1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2A32F21-FADF-4737-9517-1EB44534DE0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BE71B58-1F7B-4B6F-89A6-7EA0BF85EBA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2FA2A59-BE04-495F-BB16-5AAAC550B2B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4929A6A-16C3-4E03-9D10-1B5A6218401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F12995C-0814-4439-AD3E-30EC513C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26A7-19E9-44A0-8D9A-3C1ABE8D137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75E67A2-0199-463F-BFF9-333903D676B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B7E17A8-E9C2-40AD-A14A-D78097F5B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8E29ACC-8896-4DBF-B228-621431F2C4F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B817826-BDE5-4F14-922F-A3BEFF5C333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7E607F5-2BAE-4D9C-845E-10B863F88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7C26EE0-BA13-4969-8402-8E3088A90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81C04AA-E131-4235-800C-70C268890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0E143EF-7245-4342-A42F-32BE7956443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F288DBF-BC26-4FCA-B829-D50F462970A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567E8C3-82DF-4F0C-804D-1055A413C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F1F6A3E-9B0B-46EC-B101-8D9BAB6B2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538D041-FF93-441F-B19D-7F72B434C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5EE-6C76-4971-8296-53A2DC99A3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3270411-B894-4F39-BFE7-5C2D19583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D17C-2867-4995-BCD0-55CDAEB17BB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F36ACFC-97E7-4181-BA8B-8AE9A0197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CC3B-B88D-4AE0-8CAD-3A3ED723DCB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43E5A0E-BE3C-4EED-A2F6-777084044F1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4C4DB7B-B81F-4743-B911-A74F77B82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4D9-37EC-4E44-BD93-68AC3B43740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5A13EF4-EFC8-436F-9B17-1EBD1F2A9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jective in our Strategic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4820592-69D1-4441-A3AF-E4B5B98278F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085BAD9-3572-44B2-B768-0D5E2DC15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ed with the Teaching and Learning Strategy and the University Strategic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AC21-F26F-47E8-A74E-5008121C9E6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A360A1B-384D-4090-ACC6-BB6DBD4BC35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F275922-424B-4117-A5BC-7CF99573F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7BE86F5-3FAE-46A3-A831-CA32D723D69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A6B1C4C-AC22-4AB9-9EA4-633C634DB35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8EF4-9993-44FC-BCB4-124E3E67B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54E3-0F88-4C43-8A3D-764CB7AD7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E767-E408-4687-BC36-F11575BE6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A985-2D31-4CCF-B879-5BD4A0C0E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4F5F-8BD7-4AAE-A04A-1640628EC0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C3CE-3D80-45D1-8F9E-51EAFB7B76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35D8-124B-469B-A991-FD05DD6066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CCA7-8819-4A0C-96B8-8D8508959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6AD5-57C8-45B2-9677-6591041761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272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52B9-AAD7-4FA0-AB70-DAEA02F9E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9AD4-26F3-48D6-8C6B-BACA8622A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0F05-915C-4969-9785-BF2C1CF38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54EA-05C2-44F4-AA47-893E1E7B6D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1F23-3E88-491D-82A4-521DB27EC9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6565-B9D6-460C-BDAB-4536A44C31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413B-5BE1-4060-A2A2-0D21DBE4D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324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812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324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812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FF8B-203A-4A1E-A335-41A2F73195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79A-296C-44CE-B00F-3F5CD957E9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586-55AC-4E53-AAB8-FB1E518387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0E4-95A2-4893-841B-534943E969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E28-C037-4138-8252-31E79E2EC2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5FD-50F9-4FD2-B6CC-5E9364F1E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5439-741F-4BC9-B09E-7FE010032E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272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EED-B56C-4427-B72F-584B62C475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5E9-50B6-4734-8A64-41D2697A9D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8F0-0A39-4000-8BD8-D25323546E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6A0-4B8B-4250-BC70-108A680793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777-B986-4E80-BEBA-9ECCE521CD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689-66E1-471F-9BFD-29D9728628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324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812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36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324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812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42D-0C18-41AA-AB94-29F641B2AF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540AE-F0AB-468A-AEB6-BF0B75F7CB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971E-E0D9-4260-8827-5AB0988095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5D711-20FD-4AE4-B731-5794F88F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7486-B3A2-436D-A7F2-E33AA1B0AC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A5A4A-CC12-44E8-9CDA-87A1052873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EAD78-F89F-42FF-86B7-46CA543D36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272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99369-192F-413A-BC00-21A09600CC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23506-D71C-49E4-8798-DF2025108A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608E4-4E8C-419E-90DC-B30B8361E1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086F-C90C-4A2E-A30C-4B14E73269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80996-1A06-49BD-A9BC-0554EB4B38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A5AFB-6CAA-4998-8FDA-D62987BE16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324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8120" y="1412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4324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8120" y="3743640"/>
            <a:ext cx="26424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1EB0B-5291-40B3-9BC8-F51960062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A051-6D14-4BC2-83BD-B8317E019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7272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75E6-7B6E-400A-98D5-EEEEFC3E5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453D-E2AB-4B6B-952C-4DD5B7E9A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743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E359-5BB8-485E-AD7E-A9D0595C3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412640"/>
            <a:ext cx="400500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43640"/>
            <a:ext cx="820728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ABFF-CAC5-4F8A-8897-E25F5C804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16360" y="6381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26908EE-1FA0-436A-A4AA-6E3FA6F387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250920" y="6381720"/>
            <a:ext cx="230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- Core Tex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4"/>
          <p:cNvSpPr/>
          <p:nvPr/>
        </p:nvSpPr>
        <p:spPr>
          <a:xfrm>
            <a:off x="3419640" y="6381720"/>
            <a:ext cx="2304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 Seminar  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250920" y="6381720"/>
            <a:ext cx="230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- Core Tex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3419640" y="6381720"/>
            <a:ext cx="2304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 Seminar  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16360" y="6381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F38F435-05F0-4763-A6DE-584F9A46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logo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250920" y="6381720"/>
            <a:ext cx="230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- Core Tex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3419640" y="6381720"/>
            <a:ext cx="2304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 Seminar  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2CFBA5-6D53-4D47-B4FB-77D16407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logo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Line 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9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250920" y="6381720"/>
            <a:ext cx="2305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- Core Tex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3419640" y="6381720"/>
            <a:ext cx="2304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 Seminar  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6516360" y="6381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8DE4833-D0F0-4F8F-A1D4-EA8C88D2B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jiscebooksproject.org/" TargetMode="External"/><Relationship Id="rId2" Type="http://schemas.openxmlformats.org/officeDocument/2006/relationships/hyperlink" Target="http://www.jiscebooksproject.org/" TargetMode="External"/><Relationship Id="rId3" Type="http://schemas.openxmlformats.org/officeDocument/2006/relationships/hyperlink" Target="http://www.jiscebooksproject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mailto:Elizabeth.Murphy@nuim.ie" TargetMode="External"/><Relationship Id="rId3" Type="http://schemas.openxmlformats.org/officeDocument/2006/relationships/hyperlink" Target="mailto:Elizabeth.Murphy@nuim.ie" TargetMode="External"/><Relationship Id="rId4" Type="http://schemas.openxmlformats.org/officeDocument/2006/relationships/hyperlink" Target="mailto:Elizabeth.Murphy@nuim.ie" TargetMode="External"/><Relationship Id="rId5" Type="http://schemas.openxmlformats.org/officeDocument/2006/relationships/hyperlink" Target="mailto:Elizabeth.Murphy@nuim.i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qpo.nuim.ie/" TargetMode="External"/><Relationship Id="rId3" Type="http://schemas.openxmlformats.org/officeDocument/2006/relationships/hyperlink" Target="http://qpo.nuim.ie/" TargetMode="External"/><Relationship Id="rId4" Type="http://schemas.openxmlformats.org/officeDocument/2006/relationships/hyperlink" Target="http://qpo.nuim.ie/" TargetMode="External"/><Relationship Id="rId5" Type="http://schemas.openxmlformats.org/officeDocument/2006/relationships/hyperlink" Target="http://qpo.nuim.ie/" TargetMode="External"/><Relationship Id="rId6" Type="http://schemas.openxmlformats.org/officeDocument/2006/relationships/hyperlink" Target="http://qpo.nuim.ie/" TargetMode="External"/><Relationship Id="rId7" Type="http://schemas.openxmlformats.org/officeDocument/2006/relationships/hyperlink" Target="http://qpo.nuim.ie/" TargetMode="External"/><Relationship Id="rId8" Type="http://schemas.openxmlformats.org/officeDocument/2006/relationships/hyperlink" Target="http://qpo.nuim.ie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ncolnportrait.com/" TargetMode="External"/><Relationship Id="rId3" Type="http://schemas.openxmlformats.org/officeDocument/2006/relationships/hyperlink" Target="http://www.lincolnportrait.com/" TargetMode="External"/><Relationship Id="rId4" Type="http://schemas.openxmlformats.org/officeDocument/2006/relationships/hyperlink" Target="http://workinghumor.com/quotes/education.shtml" TargetMode="External"/><Relationship Id="rId5" Type="http://schemas.openxmlformats.org/officeDocument/2006/relationships/hyperlink" Target="http://workinghumor.com/quotes/education.shtml" TargetMode="External"/><Relationship Id="rId6" Type="http://schemas.openxmlformats.org/officeDocument/2006/relationships/hyperlink" Target="http://workinghumor.com/quotes/education.shtml" TargetMode="External"/><Relationship Id="rId7" Type="http://schemas.openxmlformats.org/officeDocument/2006/relationships/hyperlink" Target="http://workinghumor.com/quotes/education.s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299C10-B946-4ECD-9B76-52CDE2039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re Text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User Expec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tegy for improving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re tex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plan: 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2214720"/>
            <a:ext cx="7675560" cy="36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24/7 electronic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 much core full-text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ading lists as 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the Library by Dec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54B2703-5046-4DEC-B3A3-48F15503CB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plan: guid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571760"/>
            <a:ext cx="820728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se solutions with maximum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reading lis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sustainability and main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integration into normal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hardcopy (article/chap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E4DA6E0-E25C-465E-81E6-2F148C9B36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cess: identifying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000" y="1412640"/>
            <a:ext cx="4027320" cy="446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47960" y="1412640"/>
            <a:ext cx="40273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s to Reserve and Shor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with the Sociology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 box on Book Order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Reserv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5F8DE52-23DA-445A-911B-DCF38034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MCj04357310000[1]"/>
          <p:cNvPicPr/>
          <p:nvPr/>
        </p:nvPicPr>
        <p:blipFill>
          <a:blip r:embed="rId2"/>
          <a:stretch/>
        </p:blipFill>
        <p:spPr>
          <a:xfrm>
            <a:off x="2286000" y="3571920"/>
            <a:ext cx="2131920" cy="2308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8"/>
          <p:cNvSpPr/>
          <p:nvPr/>
        </p:nvSpPr>
        <p:spPr>
          <a:xfrm>
            <a:off x="357120" y="1428840"/>
            <a:ext cx="2411640" cy="1801800"/>
          </a:xfrm>
          <a:prstGeom prst="cloudCallout">
            <a:avLst>
              <a:gd name="adj1" fmla="val 94995"/>
              <a:gd name="adj2" fmla="val 79027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qualifies as “Core Text Material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4" descr="MCj04357310000[1]"/>
          <p:cNvPicPr/>
          <p:nvPr/>
        </p:nvPicPr>
        <p:blipFill>
          <a:blip r:embed="rId1"/>
          <a:stretch/>
        </p:blipFill>
        <p:spPr>
          <a:xfrm>
            <a:off x="5072040" y="3357720"/>
            <a:ext cx="2131920" cy="2307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cess: electronic avail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000" y="1412640"/>
            <a:ext cx="40273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cribed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 availabl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cat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link added to the 856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647960" y="1412640"/>
            <a:ext cx="4027320" cy="446220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9806CC-0669-4E16-876E-3CCD31F8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6000840" y="1285920"/>
            <a:ext cx="2928960" cy="1928880"/>
          </a:xfrm>
          <a:prstGeom prst="cloudCallout">
            <a:avLst>
              <a:gd name="adj1" fmla="val -21041"/>
              <a:gd name="adj2" fmla="val 71518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any Core Texts already available electronic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: Net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499760"/>
            <a:ext cx="82072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cility to choose specific tit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RC records inclu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multaneous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A14A82F-C42C-4828-B2A9-CDDD1A406F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AC6AC3F-B636-40CB-A4CB-7A7113D24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: copyright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Text Placeholder 4"/>
          <p:cNvGrpSpPr/>
          <p:nvPr/>
        </p:nvGrpSpPr>
        <p:grpSpPr>
          <a:xfrm>
            <a:off x="2214720" y="1285920"/>
            <a:ext cx="6421320" cy="2873160"/>
            <a:chOff x="2214720" y="1285920"/>
            <a:chExt cx="6421320" cy="2873160"/>
          </a:xfrm>
        </p:grpSpPr>
        <p:sp>
          <p:nvSpPr>
            <p:cNvPr id="239" name="AutoShape 19"/>
            <p:cNvSpPr/>
            <p:nvPr/>
          </p:nvSpPr>
          <p:spPr>
            <a:xfrm>
              <a:off x="2214720" y="1285920"/>
              <a:ext cx="4429080" cy="35676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ied as Core Text Materi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0"/>
            <p:cNvSpPr/>
            <p:nvPr/>
          </p:nvSpPr>
          <p:spPr>
            <a:xfrm>
              <a:off x="2927160" y="2161080"/>
              <a:ext cx="2783520" cy="33300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ailable electronically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21"/>
            <p:cNvSpPr/>
            <p:nvPr/>
          </p:nvSpPr>
          <p:spPr>
            <a:xfrm>
              <a:off x="6139080" y="3893400"/>
              <a:ext cx="2034360" cy="26568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Inform lectu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27"/>
            <p:cNvSpPr/>
            <p:nvPr/>
          </p:nvSpPr>
          <p:spPr>
            <a:xfrm rot="18099600">
              <a:off x="2857320" y="2684160"/>
              <a:ext cx="516600" cy="213840"/>
            </a:xfrm>
            <a:prstGeom prst="leftArrow">
              <a:avLst>
                <a:gd name="adj1" fmla="val 50000"/>
                <a:gd name="adj2" fmla="val 60396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8"/>
            <p:cNvSpPr/>
            <p:nvPr/>
          </p:nvSpPr>
          <p:spPr>
            <a:xfrm rot="13908600">
              <a:off x="5316480" y="2661480"/>
              <a:ext cx="532800" cy="207360"/>
            </a:xfrm>
            <a:prstGeom prst="leftArrow">
              <a:avLst>
                <a:gd name="adj1" fmla="val 50000"/>
                <a:gd name="adj2" fmla="val 64236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2"/>
            <p:cNvSpPr/>
            <p:nvPr/>
          </p:nvSpPr>
          <p:spPr>
            <a:xfrm>
              <a:off x="5567760" y="2494440"/>
              <a:ext cx="3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3"/>
            <p:cNvSpPr/>
            <p:nvPr/>
          </p:nvSpPr>
          <p:spPr>
            <a:xfrm>
              <a:off x="2744280" y="2482920"/>
              <a:ext cx="2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37"/>
            <p:cNvSpPr/>
            <p:nvPr/>
          </p:nvSpPr>
          <p:spPr>
            <a:xfrm rot="5400000">
              <a:off x="4201920" y="1798200"/>
              <a:ext cx="379080" cy="211320"/>
            </a:xfrm>
            <a:prstGeom prst="rightArrow">
              <a:avLst>
                <a:gd name="adj1" fmla="val 50000"/>
                <a:gd name="adj2" fmla="val 31035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40"/>
            <p:cNvSpPr/>
            <p:nvPr/>
          </p:nvSpPr>
          <p:spPr>
            <a:xfrm rot="5400000">
              <a:off x="6902280" y="3519360"/>
              <a:ext cx="399240" cy="213840"/>
            </a:xfrm>
            <a:prstGeom prst="rightArrow">
              <a:avLst>
                <a:gd name="adj1" fmla="val 50000"/>
                <a:gd name="adj2" fmla="val 46675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41"/>
            <p:cNvSpPr/>
            <p:nvPr/>
          </p:nvSpPr>
          <p:spPr>
            <a:xfrm>
              <a:off x="5638680" y="3027240"/>
              <a:ext cx="2997360" cy="33300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Update MARC rec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Picture 14" descr="MCj04357310000[1]"/>
          <p:cNvPicPr/>
          <p:nvPr/>
        </p:nvPicPr>
        <p:blipFill>
          <a:blip r:embed="rId1"/>
          <a:stretch/>
        </p:blipFill>
        <p:spPr>
          <a:xfrm>
            <a:off x="3714840" y="3786120"/>
            <a:ext cx="2131920" cy="23083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0"/>
          <p:cNvSpPr/>
          <p:nvPr/>
        </p:nvSpPr>
        <p:spPr>
          <a:xfrm>
            <a:off x="357120" y="3071880"/>
            <a:ext cx="3000600" cy="1928880"/>
          </a:xfrm>
          <a:prstGeom prst="cloudCallout">
            <a:avLst>
              <a:gd name="adj1" fmla="val 113333"/>
              <a:gd name="adj2" fmla="val 7527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ill I get copyright clea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2D581C-ACEE-4609-9580-0E0F77CC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cess: copyright cleara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499760"/>
            <a:ext cx="82072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CLA’s Digital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ows 5% or 1 chapter of a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mited to specific Irish publis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ust contain a print copy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y not be placed on 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y not be downloaded or em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B71769A-1D06-4586-9B7D-B94F94A2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cess: copyright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ublishers’ “Rights &amp; Permissions”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pyright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umber of students that will have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umber of page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ngth of tim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pons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cking down copyright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03FE2B2-A1FC-4111-B097-E5EC6D05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cess: digit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4" descr="MCj04357310000[1]"/>
          <p:cNvPicPr/>
          <p:nvPr/>
        </p:nvPicPr>
        <p:blipFill>
          <a:blip r:embed="rId1"/>
          <a:stretch/>
        </p:blipFill>
        <p:spPr>
          <a:xfrm>
            <a:off x="1214280" y="3429000"/>
            <a:ext cx="2465640" cy="2668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1"/>
          <p:cNvSpPr/>
          <p:nvPr/>
        </p:nvSpPr>
        <p:spPr>
          <a:xfrm>
            <a:off x="4429080" y="1571760"/>
            <a:ext cx="3381480" cy="2286000"/>
          </a:xfrm>
          <a:prstGeom prst="cloudCallout">
            <a:avLst>
              <a:gd name="adj1" fmla="val -84250"/>
              <a:gd name="adj2" fmla="val 49597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ill I digitise the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101772E-4034-430E-8129-2AB92066B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lectronic copy from copyright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-house 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ourced 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nbeigh Record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at start o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aphic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and lecture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ines/copyright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cess: digit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714320"/>
            <a:ext cx="8207280" cy="41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782F96-A366-4375-B108-48BDEC4E31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E6195F8-E721-4B19-A857-71B3D1E2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loaded to V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students registered fo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dition of origin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erial unavailable while being digit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liance on academic staff to uploa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orage space on VL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cess: digitisa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DF9F431-D6B9-4FDF-9D97-E03077DE5D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: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 rot="16200000">
            <a:off x="2732040" y="3517920"/>
            <a:ext cx="449280" cy="214560"/>
          </a:xfrm>
          <a:prstGeom prst="leftArrow">
            <a:avLst>
              <a:gd name="adj1" fmla="val 50000"/>
              <a:gd name="adj2" fmla="val 56100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7015800">
            <a:off x="1945800" y="4340160"/>
            <a:ext cx="465120" cy="214200"/>
          </a:xfrm>
          <a:prstGeom prst="rightArrow">
            <a:avLst>
              <a:gd name="adj1" fmla="val 50000"/>
              <a:gd name="adj2" fmla="val 58166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2214720" y="1285920"/>
            <a:ext cx="4429080" cy="357120"/>
          </a:xfrm>
          <a:prstGeom prst="flowChartProcess">
            <a:avLst/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as Core Text 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>
            <a:off x="1857240" y="3857760"/>
            <a:ext cx="2355840" cy="258480"/>
          </a:xfrm>
          <a:prstGeom prst="flowChartProcess">
            <a:avLst/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428760" y="4759200"/>
            <a:ext cx="2425680" cy="333360"/>
          </a:xfrm>
          <a:prstGeom prst="flowChartProcess">
            <a:avLst/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can in-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>
            <a:off x="3355920" y="4759200"/>
            <a:ext cx="2144880" cy="312840"/>
          </a:xfrm>
          <a:prstGeom prst="flowChartProcess">
            <a:avLst/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0"/>
          <p:cNvSpPr/>
          <p:nvPr/>
        </p:nvSpPr>
        <p:spPr>
          <a:xfrm rot="3400800">
            <a:off x="3731760" y="4340160"/>
            <a:ext cx="465120" cy="214200"/>
          </a:xfrm>
          <a:prstGeom prst="rightArrow">
            <a:avLst>
              <a:gd name="adj1" fmla="val 50000"/>
              <a:gd name="adj2" fmla="val 58166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6"/>
          <p:cNvGrpSpPr/>
          <p:nvPr/>
        </p:nvGrpSpPr>
        <p:grpSpPr>
          <a:xfrm>
            <a:off x="1103400" y="2482920"/>
            <a:ext cx="3782880" cy="866880"/>
            <a:chOff x="1103400" y="2482920"/>
            <a:chExt cx="3782880" cy="866880"/>
          </a:xfrm>
        </p:grpSpPr>
        <p:sp>
          <p:nvSpPr>
            <p:cNvPr id="277" name="AutoShape 22"/>
            <p:cNvSpPr/>
            <p:nvPr/>
          </p:nvSpPr>
          <p:spPr>
            <a:xfrm>
              <a:off x="1103400" y="3016440"/>
              <a:ext cx="3782880" cy="33336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pyright clea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27"/>
            <p:cNvSpPr/>
            <p:nvPr/>
          </p:nvSpPr>
          <p:spPr>
            <a:xfrm rot="18099600">
              <a:off x="2857320" y="2684520"/>
              <a:ext cx="517320" cy="213840"/>
            </a:xfrm>
            <a:prstGeom prst="leftArrow">
              <a:avLst>
                <a:gd name="adj1" fmla="val 50000"/>
                <a:gd name="adj2" fmla="val 64814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3"/>
            <p:cNvSpPr/>
            <p:nvPr/>
          </p:nvSpPr>
          <p:spPr>
            <a:xfrm>
              <a:off x="2744640" y="2482920"/>
              <a:ext cx="2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AutoShape 36"/>
          <p:cNvSpPr/>
          <p:nvPr/>
        </p:nvSpPr>
        <p:spPr>
          <a:xfrm>
            <a:off x="1928880" y="5626080"/>
            <a:ext cx="2033640" cy="264960"/>
          </a:xfrm>
          <a:prstGeom prst="flowChartProcess">
            <a:avLst/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form le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4"/>
          <p:cNvGrpSpPr/>
          <p:nvPr/>
        </p:nvGrpSpPr>
        <p:grpSpPr>
          <a:xfrm>
            <a:off x="2927520" y="1714680"/>
            <a:ext cx="2782800" cy="780840"/>
            <a:chOff x="2927520" y="1714680"/>
            <a:chExt cx="2782800" cy="780840"/>
          </a:xfrm>
        </p:grpSpPr>
        <p:sp>
          <p:nvSpPr>
            <p:cNvPr id="282" name="AutoShape 20"/>
            <p:cNvSpPr/>
            <p:nvPr/>
          </p:nvSpPr>
          <p:spPr>
            <a:xfrm>
              <a:off x="2927520" y="2162160"/>
              <a:ext cx="2782800" cy="33336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ailable electroniclly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7"/>
            <p:cNvSpPr/>
            <p:nvPr/>
          </p:nvSpPr>
          <p:spPr>
            <a:xfrm rot="5400000">
              <a:off x="4201560" y="1798920"/>
              <a:ext cx="379800" cy="211320"/>
            </a:xfrm>
            <a:prstGeom prst="rightArrow">
              <a:avLst>
                <a:gd name="adj1" fmla="val 50000"/>
                <a:gd name="adj2" fmla="val 33324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38"/>
          <p:cNvSpPr/>
          <p:nvPr/>
        </p:nvSpPr>
        <p:spPr>
          <a:xfrm rot="18099600">
            <a:off x="3594600" y="5275800"/>
            <a:ext cx="449280" cy="212760"/>
          </a:xfrm>
          <a:prstGeom prst="leftArrow">
            <a:avLst>
              <a:gd name="adj1" fmla="val 50000"/>
              <a:gd name="adj2" fmla="val 56575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9"/>
          <p:cNvSpPr/>
          <p:nvPr/>
        </p:nvSpPr>
        <p:spPr>
          <a:xfrm rot="14227200">
            <a:off x="1949040" y="5278320"/>
            <a:ext cx="449280" cy="208080"/>
          </a:xfrm>
          <a:prstGeom prst="leftArrow">
            <a:avLst>
              <a:gd name="adj1" fmla="val 50000"/>
              <a:gd name="adj2" fmla="val 57847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5"/>
          <p:cNvGrpSpPr/>
          <p:nvPr/>
        </p:nvGrpSpPr>
        <p:grpSpPr>
          <a:xfrm>
            <a:off x="5337720" y="2492280"/>
            <a:ext cx="3298320" cy="1666800"/>
            <a:chOff x="5337720" y="2492280"/>
            <a:chExt cx="3298320" cy="1666800"/>
          </a:xfrm>
        </p:grpSpPr>
        <p:sp>
          <p:nvSpPr>
            <p:cNvPr id="287" name="AutoShape 21"/>
            <p:cNvSpPr/>
            <p:nvPr/>
          </p:nvSpPr>
          <p:spPr>
            <a:xfrm>
              <a:off x="6139080" y="3893760"/>
              <a:ext cx="2034360" cy="26532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Inform lectu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8"/>
            <p:cNvSpPr/>
            <p:nvPr/>
          </p:nvSpPr>
          <p:spPr>
            <a:xfrm rot="13908600">
              <a:off x="5317200" y="2661840"/>
              <a:ext cx="532440" cy="207360"/>
            </a:xfrm>
            <a:prstGeom prst="leftArrow">
              <a:avLst>
                <a:gd name="adj1" fmla="val 50000"/>
                <a:gd name="adj2" fmla="val 68793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2"/>
            <p:cNvSpPr/>
            <p:nvPr/>
          </p:nvSpPr>
          <p:spPr>
            <a:xfrm>
              <a:off x="5567760" y="2495520"/>
              <a:ext cx="3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0"/>
            <p:cNvSpPr/>
            <p:nvPr/>
          </p:nvSpPr>
          <p:spPr>
            <a:xfrm rot="5400000">
              <a:off x="6902640" y="3519720"/>
              <a:ext cx="398880" cy="213840"/>
            </a:xfrm>
            <a:prstGeom prst="rightArrow">
              <a:avLst>
                <a:gd name="adj1" fmla="val 50000"/>
                <a:gd name="adj2" fmla="val 49975"/>
              </a:avLst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5638680" y="3027960"/>
              <a:ext cx="2997360" cy="333000"/>
            </a:xfrm>
            <a:prstGeom prst="flowChartProcess">
              <a:avLst/>
            </a:prstGeom>
            <a:solidFill>
              <a:srgbClr val="ffe7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Update MARC rec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4622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643CDF6-8443-4921-956B-8F96443639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Content Placeholder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4622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4FD4A21-C088-4F4D-9079-E24074C291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46220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A1CA449-1FF8-4F68-8A30-8D71AB6B00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on: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Content Placeholder 4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4572000"/>
          </a:xfrm>
          <a:prstGeom prst="rect">
            <a:avLst/>
          </a:prstGeom>
          <a:ln w="0">
            <a:noFill/>
          </a:ln>
        </p:spPr>
      </p:pic>
      <p:sp>
        <p:nvSpPr>
          <p:cNvPr id="303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BE4E255-9E08-4BC8-8BA1-0C861B2588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B1CCF84-130D-401E-B24F-3EF66F80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comparison with 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71680" y="1500120"/>
          <a:ext cx="7858080" cy="4178520"/>
        </p:xfrm>
        <a:graphic>
          <a:graphicData uri="http://schemas.openxmlformats.org/drawingml/2006/table">
            <a:tbl>
              <a:tblPr/>
              <a:tblGrid>
                <a:gridCol w="817560"/>
                <a:gridCol w="7040520"/>
              </a:tblGrid>
              <a:tr h="74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 report of survey of SCONUL institutions in December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part of NoWAL/Hefce Shared Services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7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 HE sector respo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creased demand for electronic learning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LA lic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HERON (Copyright Clearance and Digitisation serv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British Library HESS (Scanning Serv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ly to publis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took in-house sc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6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d on the V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af3"/>
                    </a:solidFill>
                  </a:tcPr>
                </a:tc>
              </a:tr>
            </a:tbl>
          </a:graphicData>
        </a:graphic>
      </p:graphicFrame>
      <p:sp>
        <p:nvSpPr>
          <p:cNvPr id="30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BB096C-EF62-4EAD-A4A0-A60DEB8B1F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NetLibrary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360" y="1499760"/>
            <a:ext cx="82072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ook is individually pr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15% access fee pe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year purchases pro-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available for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 per book = €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AF4BCD8-0B0D-4A9C-8DAB-6060583BE2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FAA4E0E-8EFD-4C4E-BCD8-84D12F0D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copyright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571760"/>
            <a:ext cx="82803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ampl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69 for a book (422 pages) for 30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581 for a book (399 pages) for 95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67 for a chapter(22 pages) for 191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3" descr="MCj04244660000[1]"/>
          <p:cNvPicPr/>
          <p:nvPr/>
        </p:nvPicPr>
        <p:blipFill>
          <a:blip r:embed="rId1"/>
          <a:stretch/>
        </p:blipFill>
        <p:spPr>
          <a:xfrm>
            <a:off x="7858080" y="2143080"/>
            <a:ext cx="627120" cy="539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4" descr="MCj04244680000[1]"/>
          <p:cNvPicPr/>
          <p:nvPr/>
        </p:nvPicPr>
        <p:blipFill>
          <a:blip r:embed="rId2"/>
          <a:stretch/>
        </p:blipFill>
        <p:spPr>
          <a:xfrm>
            <a:off x="2214720" y="3143160"/>
            <a:ext cx="576000" cy="542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6" descr="MCj04244660000[1]"/>
          <p:cNvPicPr/>
          <p:nvPr/>
        </p:nvPicPr>
        <p:blipFill>
          <a:blip r:embed="rId3"/>
          <a:stretch/>
        </p:blipFill>
        <p:spPr>
          <a:xfrm>
            <a:off x="7572240" y="5286240"/>
            <a:ext cx="62712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digitisation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52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book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remain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c. p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book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unbound and re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c. p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D1C47E7-F01B-489B-A10D-F78A19BFE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copies of text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pies of textbook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esterisation and modula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reading lis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nd academic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access/deliver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-time and distance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profile of stud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A930706-A83D-4E34-931B-957FA72E70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5EDEE8F-A034-4E90-A501-7A2D5137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valuation: 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pyright clearance and digitisati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pyright service fee = direct fee from publis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dditional administration fee per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nual subscription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st currently outweighs benef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538E442-3509-4B46-8C6F-6BDE6359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valuation: comparative co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250920" y="1197000"/>
          <a:ext cx="759600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759600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FD7152-9CB7-417D-8CB0-806D00DD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valuation: access via catal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Reports"/>
          <p:cNvPicPr/>
          <p:nvPr/>
        </p:nvPicPr>
        <p:blipFill>
          <a:blip r:embed="rId1"/>
          <a:stretch/>
        </p:blipFill>
        <p:spPr>
          <a:xfrm>
            <a:off x="1403280" y="1484280"/>
            <a:ext cx="6551640" cy="39276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468360" y="1413000"/>
            <a:ext cx="8207280" cy="4462200"/>
            <a:chOff x="468360" y="1413000"/>
            <a:chExt cx="8207280" cy="446220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8207280" cy="44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468360" y="1413000"/>
              <a:ext cx="8207280" cy="446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743200" y="2514600"/>
            <a:ext cx="464832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 hits – Soc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 hits – Business, Economics &amp;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hits –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hits – Language &amp; Lingu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hits - Soc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ation: access via V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ontent Placeholder 8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27320" cy="4462200"/>
          </a:xfrm>
          <a:prstGeom prst="rect">
            <a:avLst/>
          </a:prstGeom>
          <a:ln w="0">
            <a:noFill/>
          </a:ln>
        </p:spPr>
      </p:pic>
      <p:pic>
        <p:nvPicPr>
          <p:cNvPr id="336" name="Content Placeholder 10" descr=""/>
          <p:cNvPicPr/>
          <p:nvPr/>
        </p:nvPicPr>
        <p:blipFill>
          <a:blip r:embed="rId2"/>
          <a:stretch/>
        </p:blipFill>
        <p:spPr>
          <a:xfrm>
            <a:off x="4648320" y="1413000"/>
            <a:ext cx="4027320" cy="446220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BBA4B4A-50D3-4DE4-8B0F-CC488B66A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785600"/>
            <a:ext cx="820728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nformation page viewed on V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ed when Library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ing to MP3 player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flexibility for users with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evaluated by academic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E56BC2C-B423-4CF6-8953-19F66C51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70D2E72-099F-4E5D-9031-B5EEE49A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valuation – f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1000080" y="1428840"/>
            <a:ext cx="7632720" cy="3730680"/>
          </a:xfrm>
          <a:prstGeom prst="wedgeEllipseCallout">
            <a:avLst>
              <a:gd name="adj1" fmla="val -46837"/>
              <a:gd name="adj2" fmla="val 56888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Easy and open access to essential readings will greatly improve lecturers' ability to design innovative courses and 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tudents with a greater range of readings and of ways to get access to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02920" y="557208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 Sean Ó Riain, Dept of Soci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1C5F5EE-B816-44A7-A965-09E451EA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valuation: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1332000" y="2060640"/>
            <a:ext cx="6734160" cy="2305080"/>
          </a:xfrm>
          <a:prstGeom prst="wedgeEllipseCallout">
            <a:avLst>
              <a:gd name="adj1" fmla="val -47430"/>
              <a:gd name="adj2" fmla="val 79615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ies in well with the culture and expectations of our talented and tech savvy I-Pod generation studen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41440" y="5227560"/>
            <a:ext cx="62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r Tom Mulvey, Dept of Business and L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1E8036E-DA92-4A56-B0DB-C30E5329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72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achieving 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00040" y="1642680"/>
            <a:ext cx="820728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an efficient and effectiv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istance and remo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flexible 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user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ing library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staff develop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BD00E7A-DDDB-46EE-89AB-AAF52B01B1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576B663-9D9C-4BFE-9757-527C8816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: projec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643040"/>
            <a:ext cx="820728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liable upload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from catalogue to V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other e-book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maintenance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sag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rom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with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454291E-6FF0-4849-B0C4-608811B07B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8E16D12-CD1F-4E50-B81D-10A4271D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: development of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8360" y="1412640"/>
            <a:ext cx="8207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with other librar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ing poli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develop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space in V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us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58D973F-4208-4412-90C5-87CB72DAD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1412640"/>
            <a:ext cx="8207280" cy="44622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0C77530-CA7F-48CB-84FA-9F2510FE47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468360" y="1413000"/>
            <a:ext cx="820728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Outline proposal – reading strategy for student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nes Neligan, 16 Ma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Callout 5"/>
          <p:cNvSpPr/>
          <p:nvPr/>
        </p:nvSpPr>
        <p:spPr>
          <a:xfrm>
            <a:off x="357120" y="1643040"/>
            <a:ext cx="6929640" cy="2286000"/>
          </a:xfrm>
          <a:prstGeom prst="wedgeEllipseCallout">
            <a:avLst>
              <a:gd name="adj1" fmla="val 15689"/>
              <a:gd name="adj2" fmla="val 81300"/>
            </a:avLst>
          </a:prstGeom>
          <a:solidFill>
            <a:srgbClr val="ffe7b7"/>
          </a:solidFill>
          <a:ln w="25560">
            <a:solidFill>
              <a:srgbClr val="bcaa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uild a strategy to address and manage student expectations in this area…that would ensure that all students have access, in print or electronically, to material on reading lis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93E9A83-E142-43E2-97A3-E84523860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: development of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jiscebooksproject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specific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licens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/benefit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N/in-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C733E63-B10F-4475-95CB-6E03D44A6D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2338896-54A8-4902-BA33-8764E4B68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MCj04357310000[1]"/>
          <p:cNvPicPr/>
          <p:nvPr/>
        </p:nvPicPr>
        <p:blipFill>
          <a:blip r:embed="rId1"/>
          <a:stretch/>
        </p:blipFill>
        <p:spPr>
          <a:xfrm>
            <a:off x="911160" y="2786040"/>
            <a:ext cx="2459160" cy="26622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/>
          <p:cNvSpPr/>
          <p:nvPr/>
        </p:nvSpPr>
        <p:spPr>
          <a:xfrm>
            <a:off x="3500280" y="1428840"/>
            <a:ext cx="3714840" cy="2286000"/>
          </a:xfrm>
          <a:prstGeom prst="cloudCallout">
            <a:avLst>
              <a:gd name="adj1" fmla="val -57587"/>
              <a:gd name="adj2" fmla="val 66629"/>
            </a:avLst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500720" y="4143240"/>
            <a:ext cx="4038480" cy="1285920"/>
          </a:xfrm>
          <a:prstGeom prst="rect">
            <a:avLst/>
          </a:prstGeom>
          <a:solidFill>
            <a:srgbClr val="ff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ank you for listenin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Elizabeth.Murphy@</a:t>
            </a:r>
            <a:r>
              <a:rPr b="0" lang="en-GB" sz="20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nuim</a:t>
            </a:r>
            <a:r>
              <a:rPr b="0" lang="en-GB" sz="20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20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262BCA0-ABEF-4869-A5EF-A69FD6E9D4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rary Strategic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288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laborate with academic departments to improve access to core texts and Reserve material in the most suitable format” (p.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F:\Work\Core Text\LIR\Strategic plan.reduced.jpg"/>
          <p:cNvPicPr/>
          <p:nvPr/>
        </p:nvPicPr>
        <p:blipFill>
          <a:blip r:embed="rId1"/>
          <a:stretch/>
        </p:blipFill>
        <p:spPr>
          <a:xfrm>
            <a:off x="3571920" y="1928880"/>
            <a:ext cx="5257800" cy="37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8BC9552-B326-4DE6-BF66-8064DC1D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389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versity Strategic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C717A3-229B-4237-9117-1E89C2DE3A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val 6" descr=""/>
          <p:cNvPicPr/>
          <p:nvPr/>
        </p:nvPicPr>
        <p:blipFill>
          <a:blip r:embed="rId1"/>
          <a:stretch/>
        </p:blipFill>
        <p:spPr>
          <a:xfrm>
            <a:off x="480960" y="1407960"/>
            <a:ext cx="8255160" cy="4469040"/>
          </a:xfrm>
          <a:prstGeom prst="rect">
            <a:avLst/>
          </a:prstGeom>
          <a:ln w="0">
            <a:noFill/>
          </a:ln>
        </p:spPr>
      </p:pic>
      <p:sp>
        <p:nvSpPr>
          <p:cNvPr id="202" name="Oval 7"/>
          <p:cNvSpPr/>
          <p:nvPr/>
        </p:nvSpPr>
        <p:spPr>
          <a:xfrm>
            <a:off x="928800" y="1857240"/>
            <a:ext cx="6143400" cy="3571920"/>
          </a:xfrm>
          <a:prstGeom prst="ellipse">
            <a:avLst/>
          </a:prstGeom>
          <a:gradFill rotWithShape="0">
            <a:gsLst>
              <a:gs pos="0">
                <a:srgbClr val="fffcbf"/>
              </a:gs>
              <a:gs pos="100000">
                <a:srgbClr val="fffeeb"/>
              </a:gs>
            </a:gsLst>
            <a:lin ang="16200000"/>
          </a:gradFill>
          <a:ln w="9360">
            <a:solidFill>
              <a:srgbClr val="fbe2b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ilitate greater access for students to course materials and electronic services from  off-campus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UI Maynooth Teaching and Learning Strategy, March 2007, p.13 -  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qpo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nuim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ie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9C9DF4B-BD32-4A4A-8D32-9F6203990D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Innovation Fund (S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ma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ading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A4E04B4-1610-4491-8FC6-83F40871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59727B8-F339-4D68-8EA7-82A612EB9C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www.lincolnportrait.com/images/lincolnc.jpg"/>
          <p:cNvPicPr/>
          <p:nvPr/>
        </p:nvPicPr>
        <p:blipFill>
          <a:blip r:embed="rId1"/>
          <a:stretch/>
        </p:blipFill>
        <p:spPr>
          <a:xfrm>
            <a:off x="5786280" y="1609560"/>
            <a:ext cx="2573640" cy="3176640"/>
          </a:xfrm>
          <a:prstGeom prst="rect">
            <a:avLst/>
          </a:prstGeom>
          <a:ln w="0">
            <a:noFill/>
          </a:ln>
        </p:spPr>
      </p:pic>
      <p:sp>
        <p:nvSpPr>
          <p:cNvPr id="210" name="Cloud Callout 5"/>
          <p:cNvSpPr/>
          <p:nvPr/>
        </p:nvSpPr>
        <p:spPr>
          <a:xfrm>
            <a:off x="571680" y="1357200"/>
            <a:ext cx="4786200" cy="3571920"/>
          </a:xfrm>
          <a:prstGeom prst="cloudCallout">
            <a:avLst>
              <a:gd name="adj1" fmla="val 78740"/>
              <a:gd name="adj2" fmla="val -27476"/>
            </a:avLst>
          </a:prstGeom>
          <a:solidFill>
            <a:srgbClr val="ffe7b7"/>
          </a:solidFill>
          <a:ln w="25560">
            <a:solidFill>
              <a:srgbClr val="bcaa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me six hours to chop down a tre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I will spe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f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pening the ax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786040" y="5000760"/>
            <a:ext cx="59292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2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raham Lincol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IE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lincolnportrait.com</a:t>
            </a:r>
            <a:r>
              <a:rPr b="0" lang="en-IE" sz="1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/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workinghumor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.com/quotes/education.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s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plan: scope of th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1412640"/>
            <a:ext cx="820728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propose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/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16720" y="6381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69A717A-1F33-4689-B369-61FEAC56A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8:05:51Z</dcterms:created>
  <dc:creator>emurphy</dc:creator>
  <dc:description/>
  <dc:language>en-US</dc:language>
  <cp:lastModifiedBy>emurphy</cp:lastModifiedBy>
  <dcterms:modified xsi:type="dcterms:W3CDTF">2008-04-07T12:35:49Z</dcterms:modified>
  <cp:revision>166</cp:revision>
  <dc:subject/>
  <dc:title>PowerPoint Presentation</dc:title>
</cp:coreProperties>
</file>