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275-8975-418D-8CC7-CEF12725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3FE0-5D20-44F7-826C-3F013635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F6AB-2D3C-4E3C-AFD9-1856A047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A46-A981-44F5-A356-177EC620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FEA3-F873-400C-9146-2B1FC4C2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6464-B2AA-4F49-BB68-BDFC0E4F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9105-79FC-4708-AC98-A237192A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0D9A-B428-44F8-AA0F-CCEFFDFE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78DA-6EE4-4D4F-B07A-701BDD08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99AF-F9F1-4AFE-8F58-D6503E14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1060-4855-462A-A7B6-DE80B0C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4F0-F4DB-47C2-BE0F-8996E611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23A7-6312-42D8-A05D-2BA92BF6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3EE5-AB2E-41BD-BAF7-FDE2D62F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3573-B284-41EE-AF82-DD6C718E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716C-A2A7-44BB-88AF-8B4252B9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D585-AE01-4DF2-A122-670CB337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86B-D53D-4BD1-B9AD-DB126963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096-778B-4E57-8C0C-286D1B87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78B-BD92-4D96-B02B-67132020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015-7C50-463E-99EB-60C89CE7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706C-926B-42A1-8520-FBE68D92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1ED-8174-452D-B74A-6E7B3C8A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881-3197-4A3C-BAFC-8A96EAB0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0FFB-CAAD-4379-81A4-CAEF1055912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005C-204B-4D33-BB79-6F5DF36A05B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dlr.ie/" TargetMode="External"/><Relationship Id="rId2" Type="http://schemas.openxmlformats.org/officeDocument/2006/relationships/hyperlink" Target="http://www.ndlr.ie/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dlr.ie/" TargetMode="External"/><Relationship Id="rId2" Type="http://schemas.openxmlformats.org/officeDocument/2006/relationships/hyperlink" Target="http://www.ndlr.ie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dlr.ie/" TargetMode="External"/><Relationship Id="rId2" Type="http://schemas.openxmlformats.org/officeDocument/2006/relationships/hyperlink" Target="http://www.ndlr.ie/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wenger.com/theory/index.htm" TargetMode="External"/><Relationship Id="rId2" Type="http://schemas.openxmlformats.org/officeDocument/2006/relationships/hyperlink" Target="http://www.ewenger.com/theory/index.htm" TargetMode="Externa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ndlr.ie/telcop/" TargetMode="External"/><Relationship Id="rId2" Type="http://schemas.openxmlformats.org/officeDocument/2006/relationships/hyperlink" Target="http://www.ndlr.ie/telcop/" TargetMode="External"/><Relationship Id="rId3" Type="http://schemas.openxmlformats.org/officeDocument/2006/relationships/hyperlink" Target="http://www.ndlr.ie/telcop/" TargetMode="External"/><Relationship Id="rId4" Type="http://schemas.openxmlformats.org/officeDocument/2006/relationships/hyperlink" Target="mailto:cbruen@tcd.ie" TargetMode="External"/><Relationship Id="rId5" Type="http://schemas.openxmlformats.org/officeDocument/2006/relationships/hyperlink" Target="mailto:Vincent.Wade@cs.tcd.ie" TargetMode="External"/><Relationship Id="rId6" Type="http://schemas.openxmlformats.org/officeDocument/2006/relationships/hyperlink" Target="http://www.ndlr.ie/educop/blog/" TargetMode="External"/><Relationship Id="rId7" Type="http://schemas.openxmlformats.org/officeDocument/2006/relationships/hyperlink" Target="http://www.ndlr.ie/educop/blog/" TargetMode="External"/><Relationship Id="rId8" Type="http://schemas.openxmlformats.org/officeDocument/2006/relationships/hyperlink" Target="http://www.ndlr.ie/educop/blog/" TargetMode="External"/><Relationship Id="rId9" Type="http://schemas.openxmlformats.org/officeDocument/2006/relationships/hyperlink" Target="mailto:claire.mcavinia@nuim.ie" TargetMode="External"/><Relationship Id="rId10" Type="http://schemas.openxmlformats.org/officeDocument/2006/relationships/hyperlink" Target="http://www.ndlr.ie/modlang/blog/" TargetMode="External"/><Relationship Id="rId11" Type="http://schemas.openxmlformats.org/officeDocument/2006/relationships/hyperlink" Target="http://www.ndlr.ie/modlang/blog/" TargetMode="External"/><Relationship Id="rId12" Type="http://schemas.openxmlformats.org/officeDocument/2006/relationships/hyperlink" Target="http://www.ndlr.ie/modlang/blog/" TargetMode="External"/><Relationship Id="rId13" Type="http://schemas.openxmlformats.org/officeDocument/2006/relationships/hyperlink" Target="mailto:paul.gormley@nuigalway.ie" TargetMode="External"/><Relationship Id="rId14" Type="http://schemas.openxmlformats.org/officeDocument/2006/relationships/hyperlink" Target="mailto:labhaoise.nidhonnchadha@nuigalway.ie" TargetMode="External"/><Relationship Id="rId15" Type="http://schemas.openxmlformats.org/officeDocument/2006/relationships/hyperlink" Target="mailto:Janice.Oconnell@ul.ie" TargetMode="External"/><Relationship Id="rId16" Type="http://schemas.openxmlformats.org/officeDocument/2006/relationships/hyperlink" Target="mailto:chris.exton@ul.ie" TargetMode="External"/><Relationship Id="rId17" Type="http://schemas.openxmlformats.org/officeDocument/2006/relationships/hyperlink" Target="mailto:auadams@tcd.ie" TargetMode="External"/><Relationship Id="rId1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ndlr.ie/vetbioen" TargetMode="External"/><Relationship Id="rId2" Type="http://schemas.openxmlformats.org/officeDocument/2006/relationships/hyperlink" Target="http://www.ndlr.ie/vetbioen" TargetMode="External"/><Relationship Id="rId3" Type="http://schemas.openxmlformats.org/officeDocument/2006/relationships/hyperlink" Target="mailto:david.jennings@ucd.ie" TargetMode="External"/><Relationship Id="rId4" Type="http://schemas.openxmlformats.org/officeDocument/2006/relationships/hyperlink" Target="mailto:david.jennings@ucd.ie" TargetMode="External"/><Relationship Id="rId5" Type="http://schemas.openxmlformats.org/officeDocument/2006/relationships/hyperlink" Target="mailto:diane.cashman@ucd.ie" TargetMode="External"/><Relationship Id="rId6" Type="http://schemas.openxmlformats.org/officeDocument/2006/relationships/hyperlink" Target="mailto:diane.cashman@ucd.ie" TargetMode="External"/><Relationship Id="rId7" Type="http://schemas.openxmlformats.org/officeDocument/2006/relationships/hyperlink" Target="mailto:Michael.Parkinson@dcu.ie" TargetMode="External"/><Relationship Id="rId8" Type="http://schemas.openxmlformats.org/officeDocument/2006/relationships/hyperlink" Target="mailto:Michael.Parkinson@dcu.ie" TargetMode="External"/><Relationship Id="rId9" Type="http://schemas.openxmlformats.org/officeDocument/2006/relationships/hyperlink" Target="mailto:Michael.Parkinson@dcu.ie" TargetMode="External"/><Relationship Id="rId10" Type="http://schemas.openxmlformats.org/officeDocument/2006/relationships/hyperlink" Target="mailto:philip.cohen@dit.ie" TargetMode="External"/><Relationship Id="rId11" Type="http://schemas.openxmlformats.org/officeDocument/2006/relationships/hyperlink" Target="mailto:philip.cohen@dit.ie" TargetMode="External"/><Relationship Id="rId12" Type="http://schemas.openxmlformats.org/officeDocument/2006/relationships/hyperlink" Target="mailto:Jen.harvey@dit.ie" TargetMode="External"/><Relationship Id="rId13" Type="http://schemas.openxmlformats.org/officeDocument/2006/relationships/hyperlink" Target="mailto:Jen.harvey@dit.ie" TargetMode="External"/><Relationship Id="rId14" Type="http://schemas.openxmlformats.org/officeDocument/2006/relationships/hyperlink" Target="mailto:Brian.Bowe@dit.ie" TargetMode="External"/><Relationship Id="rId15" Type="http://schemas.openxmlformats.org/officeDocument/2006/relationships/hyperlink" Target="mailto:Brian.Bowe@dit.ie" TargetMode="External"/><Relationship Id="rId16" Type="http://schemas.openxmlformats.org/officeDocument/2006/relationships/hyperlink" Target="mailto:paul.robinson@it-tallaght.ie" TargetMode="External"/><Relationship Id="rId17" Type="http://schemas.openxmlformats.org/officeDocument/2006/relationships/hyperlink" Target="mailto:paul.robinson@it-tallaght.ie" TargetMode="External"/><Relationship Id="rId18" Type="http://schemas.openxmlformats.org/officeDocument/2006/relationships/hyperlink" Target="mailto:eamon.costello@dcu.ie" TargetMode="External"/><Relationship Id="rId19" Type="http://schemas.openxmlformats.org/officeDocument/2006/relationships/hyperlink" Target="mailto:eamon.costello@dcu.ie" TargetMode="External"/><Relationship Id="rId20" Type="http://schemas.openxmlformats.org/officeDocument/2006/relationships/hyperlink" Target="mailto:Dermot.Brabazon@dcu.ie" TargetMode="External"/><Relationship Id="rId2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bc.go.com/games/millionairetv/game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jorum.ac.uk/previous_frs/index.html" TargetMode="External"/><Relationship Id="rId2" Type="http://schemas.openxmlformats.org/officeDocument/2006/relationships/hyperlink" Target="http://www.jorum.ac.uk/previous_frs/index.html" TargetMode="External"/><Relationship Id="rId3" Type="http://schemas.openxmlformats.org/officeDocument/2006/relationships/hyperlink" Target="http://www.ucel.ac.uk/rlos/Default.html" TargetMode="External"/><Relationship Id="rId4" Type="http://schemas.openxmlformats.org/officeDocument/2006/relationships/hyperlink" Target="http://www.ucel.ac.uk/rlos/Default.html" TargetMode="Externa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Philip.Cohen@DIT.ie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1628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omic Sans MS"/>
              </a:rPr>
              <a:t>NDLR and Communities of Practi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9200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Philip Coh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D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4149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Reusable Learning Objec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55964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ny digital entity used and re-used for learning: class, online, blend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Structured in a meaningful 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Sets or one-off individual it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Web-based and/or V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Multiple media types: PDF, Java, Flash, HTML, Powerpoint, Text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The NDLR is ..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7920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n online service that supports the sharing of learning objects/resou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ational: all 7 Universities + 14 I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Funded by HEA, hosted by HEA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3 year project initial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Distributed responsibility across many of our own institu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ttp://www.ndlr.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NDLR Added Value [1]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6327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Centralised sp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Single interoperable port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Links to other repositories, library resources with common metada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Irish HE context ensures relevanc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Potential for international liais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IE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IE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ndlr.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NDLR Added Value [2]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345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voids re-inventing the whe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Reusing resources increases VFM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Potential for sourcing extra fu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wareness raising for R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Raises profile for our institutions and for scholarly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IE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IE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ndlr.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99548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NDLR Added Value [3]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488360" cy="50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RLOs easily stored, discovered, delivered and retriev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DRM, IPR and copyright clea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Metadata Team in place, choice of    4 standard taxonom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Fine-grained RLOs easy to integra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Plug &amp; Go’ and/or can be tailo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4" marL="20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9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ttp://www.ndlr.ie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NDLR Added Value [4]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272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Promotes best practi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Supports development of quality learning and teaching materi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Encourages peer-to-peer collaboration, review, trai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Extra support for existing work    in various subject ar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IE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ndlr.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8309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Co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07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79280" y="188640"/>
            <a:ext cx="532908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Co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113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1280" y="404280"/>
            <a:ext cx="374184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59025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What is the NDL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What are CoP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LIS C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Why Libraries Benef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How to Participa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International Examp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5257800" cy="34192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84360" y="691920"/>
            <a:ext cx="496728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Co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410184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Co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6696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ties of Practice (CoPs) are groups of people who share a passion for something that they know how to do and who interact regularly to learn how to do it bet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Comic Sans MS"/>
              </a:rPr>
              <a:t>Etienne Wenger @  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wenger.com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NDLR Co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8134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Multi-institutional groups working together to create/manage RL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Online tools to help build communities: websites, lists, RSS, wikis, blogs .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Support, guidance, training, networ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User group liaison with Project Board, Site Representatives, other Co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Current CoPs [1]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26920" y="1628640"/>
          <a:ext cx="7201080" cy="370836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115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echnology Enhanced Learning 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"/>
                        </a:rPr>
                        <a:t>http://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2"/>
                        </a:rPr>
                        <a:t>www.ndlr.ie/telcop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3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atherine Bruen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4"/>
                        </a:rPr>
                        <a:t>cbruen@tcd.i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incent Wade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5"/>
                        </a:rPr>
                        <a:t>Vincent.Wade@cs.tcd.i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duc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6"/>
                        </a:rPr>
                        <a:t>http://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7"/>
                        </a:rPr>
                        <a:t>www.ndlr.ie/educop/blog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8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laire McAvinia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9"/>
                        </a:rPr>
                        <a:t>claire.mcavinia@nuim.i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ern Languag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0"/>
                        </a:rPr>
                        <a:t>http://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1"/>
                        </a:rPr>
                        <a:t>www.ndlr.ie/modlang/blog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2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ul Gormley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3"/>
                        </a:rPr>
                        <a:t>paul.gormley@nuigalway.i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bhaoise Ni Dhonnchadha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4"/>
                        </a:rPr>
                        <a:t>labhaoise.nidhonnchadha@nuigalway.i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mputer Scie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Janice O’Connell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5"/>
                        </a:rPr>
                        <a:t>Janice.Oconnell@ul.i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</a:t>
                      </a:r>
                      <a:br>
                        <a:rPr sz="1200"/>
                      </a:b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hris Exton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6"/>
                        </a:rPr>
                        <a:t>chris.exton@ul.i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ursing &amp; Midwife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udrey Adams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7"/>
                        </a:rPr>
                        <a:t>auadams@tcd.i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12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Current CoPs [2]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26920" y="1700280"/>
          <a:ext cx="7344000" cy="3657240"/>
        </p:xfrm>
        <a:graphic>
          <a:graphicData uri="http://schemas.openxmlformats.org/drawingml/2006/table">
            <a:tbl>
              <a:tblPr/>
              <a:tblGrid>
                <a:gridCol w="3498840"/>
                <a:gridCol w="3845160"/>
              </a:tblGrid>
              <a:tr h="75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eterinary &amp; Bio-Environmental Sci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"/>
                        </a:rPr>
                        <a:t>http://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2"/>
                        </a:rPr>
                        <a:t>www.ndlr.ie/vetbio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avid Jennings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3"/>
                        </a:rPr>
                        <a:t>david.jennings@ucd.ie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4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iane Cashman ( 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5"/>
                        </a:rPr>
                        <a:t>diane.cashman@ucd.ie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6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io Technolog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ichael Parkinson 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7"/>
                        </a:rPr>
                        <a:t>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8"/>
                        </a:rPr>
                        <a:t>Michael.Parkinson@dcu.ie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9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Comic Sans MS"/>
                          <a:ea typeface="Times New Roman"/>
                        </a:rPr>
                        <a:t>Library Information Skill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hilip Cohen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0"/>
                        </a:rPr>
                        <a:t>Philip.Cohen@dit.ie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1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Jen Harvey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2"/>
                        </a:rPr>
                        <a:t>Jen.harvey@dit.ie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3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hysical &amp; Chemical Scien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ian Bowe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4"/>
                        </a:rPr>
                        <a:t>Brian.Bowe@dit.ie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5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athematics &amp; Statistics Servi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aul Robinson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6"/>
                        </a:rPr>
                        <a:t>paul.robinson@it-tallaght.ie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7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amon Costello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8"/>
                        </a:rPr>
                        <a:t>eamon.costello@dcu.ie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19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chanical Engineerin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rmot Brabazon (</a:t>
                      </a: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ea typeface="Times New Roman"/>
                          <a:hlinkClick r:id="rId20"/>
                        </a:rPr>
                        <a:t>Dermot.Brabazon@dcu.ie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35240" y="0"/>
            <a:ext cx="522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908000" y="-243000"/>
            <a:ext cx="562788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Why Libraries Benefit [1]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6560" y="1412640"/>
            <a:ext cx="741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ational high profile proj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dditional resources: free, complementary, new me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Easy to find and 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Integrated Web 2.0 pro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Traditional library skills at centre of management, support, learn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05636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Why Libraries Benefit [2]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7561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Potential extra funding: resources, support materials, liaison, trai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Develop own scholarly activ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dditional scope for collabo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Raises status of IL, Learning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Helps to co-ordinate the work of ACIL and WGIL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844640"/>
            <a:ext cx="44640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How to Particip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96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Go to www.ndlr.ie </a:t>
            </a:r>
            <a:r>
              <a:rPr b="0" i="1" lang="en-IE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I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regular updates</a:t>
            </a:r>
            <a:r>
              <a:rPr b="0" i="1" lang="en-IE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Support academic colleagu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Get involved with subject Co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Join LIS Co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Contact me now or l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Via ACIL and WG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Watch out for further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Create, contribute and use resou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Other RLO Reposi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JORUM 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ttp://www.jorum.ac.uk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RLO-CETL 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ttp://www.rlo-cetl.ac.uk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UCEL 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ttp://www.ucel.ac.uk/rlos/Default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RIADNE 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ttp://www.ariadne-eu.org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MERLOT 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ttp://www.merlot.org/Home.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CAREO  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ttp://www.careo.org/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6624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Some Sample RL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99640" y="2133720"/>
            <a:ext cx="7696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omic Sans MS"/>
              </a:rPr>
              <a:t>JORU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jorum.ac.uk/previous_frs/index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Comic Sans MS"/>
              </a:rPr>
              <a:t>UC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2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://</a:t>
            </a:r>
            <a:r>
              <a:rPr b="0" lang="en-IE" sz="24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www.ucel.ac.uk/rlos/Default.ht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76360" y="1628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omic Sans MS"/>
              </a:rPr>
              <a:t>CoP on to </a:t>
            </a:r>
            <a:br>
              <a:rPr sz="4400"/>
            </a:br>
            <a:r>
              <a:rPr b="0" lang="en-IE" sz="4400" spc="-1" strike="noStrike">
                <a:solidFill>
                  <a:srgbClr val="ff0000"/>
                </a:solidFill>
                <a:latin typeface="Comic Sans MS"/>
              </a:rPr>
              <a:t>the NDLR</a:t>
            </a:r>
            <a:r>
              <a:rPr b="0" lang="en-IE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IE" sz="44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76328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Philip.Cohen@DIT.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What is the NDL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755820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orth Dublin Light Rail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ational Driving Licence Revi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ew strain of Bird Flu vir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Something important for librar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What is the NDL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99640" y="2491920"/>
            <a:ext cx="8062920" cy="27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orth Dublin Light Railw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ational Driving Licence Revi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ew strain of Bird Flu vir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omic Sans MS"/>
              </a:rPr>
              <a:t>Something important for libraries  </a:t>
            </a:r>
            <a:r>
              <a:rPr b="1" lang="en-I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687096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Why is it Importan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199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 new data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 new search eng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It will make us all redund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n exciting new resource that puts libraries at the centre of the learning proc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687096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Why is it Importan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270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 new data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 new search eng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It will make us all redunda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omic Sans MS"/>
              </a:rPr>
              <a:t>An exciting new resource that puts libraries at the centre of the learning process  </a:t>
            </a:r>
            <a:r>
              <a:rPr b="1" lang="en-I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270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omic Sans MS"/>
              </a:rPr>
              <a:t>What sort of new resource;    why libraries at the cent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42560" y="2133720"/>
            <a:ext cx="7126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Complements other resou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ccessible: free, easy to 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Collaborative and gro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Library staff are needed to organise, manage, use and promote 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Comic Sans MS"/>
              </a:rPr>
              <a:t>What sort of new resource; why libraries at the centre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920" y="2133720"/>
            <a:ext cx="7129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omic Sans MS"/>
              </a:rPr>
              <a:t>Complements other resources  </a:t>
            </a:r>
            <a:r>
              <a:rPr b="1" lang="en-I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omic Sans MS"/>
              </a:rPr>
              <a:t>Accessible: free, easy to use  </a:t>
            </a:r>
            <a:r>
              <a:rPr b="1" lang="en-I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omic Sans MS"/>
              </a:rPr>
              <a:t>Collaborative and growing  </a:t>
            </a:r>
            <a:r>
              <a:rPr b="1" lang="en-I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spcBef>
                <a:spcPts val="799"/>
              </a:spcBef>
              <a:buClr>
                <a:srgbClr val="ff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Comic Sans MS"/>
              </a:rPr>
              <a:t>Library staff are needed to organise, manage, use and promote it  </a:t>
            </a:r>
            <a:r>
              <a:rPr b="1" lang="en-IE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8:56:35Z</dcterms:created>
  <dc:creator>pcohen</dc:creator>
  <dc:description/>
  <dc:language>en-US</dc:language>
  <cp:lastModifiedBy>Staff pc</cp:lastModifiedBy>
  <dcterms:modified xsi:type="dcterms:W3CDTF">2007-03-28T08:07:25Z</dcterms:modified>
  <cp:revision>85</cp:revision>
  <dc:subject/>
  <dc:title>Slide 1</dc:title>
</cp:coreProperties>
</file>