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5A2-A414-42D9-94EE-07AEBA4D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071-3DC8-4154-8E78-11B59D28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060-CDC7-4059-ABD4-3C4BCEB1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260-F2A9-4D2A-91CB-4B126F80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288-B210-4099-BF6F-2BF9420E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DAA-5D98-44CA-A34F-B9ED4AE9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1B7-DFC7-4F81-8D29-563F3F67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F53-FBB1-4BBA-AE16-6078DA75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488-62BE-4653-A05A-4FDCD3A9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CF6-DB93-4499-BA93-E6E762F0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352-8CF3-4D97-8745-1DBA17A7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C36-7F9B-42EC-9A34-68777351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0241-BBEC-4FED-9BDD-B891D7FF51F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223-B3AC-478F-ADE7-3BA2103C3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lar.google.com/url?sa=U&amp;q=http://www.worldcatlibraries.org/wcpa/ow/7f0526607f7a53f7a19afeb4da09e526.html&amp;oi=library" TargetMode="External"/><Relationship Id="rId2" Type="http://schemas.openxmlformats.org/officeDocument/2006/relationships/hyperlink" Target="http://www.google.com/search?q=%22Eklof%22+%22Russian+Peasant+Schools%22" TargetMode="External"/><Relationship Id="rId3" Type="http://schemas.openxmlformats.org/officeDocument/2006/relationships/hyperlink" Target="http://scholar.google.com/scholar?hl=en&amp;lr=&amp;q=link:ch_JC5XVFhkJ:scholar.google.com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8000"/>
                </a:solidFill>
                <a:latin typeface="Times New Roman"/>
              </a:rPr>
              <a:t>On the Shoulders of Gian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6096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ogle Scholar &amp; other Google academic initi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IR Annual Semina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3657600"/>
            <a:ext cx="20178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147492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09680" y="3733920"/>
            <a:ext cx="1536840" cy="23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324480" y="1981080"/>
            <a:ext cx="25146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65B-7E48-4B31-84CF-4A88D25E2F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50BD7-D2B4-4124-9413-D591F2C91656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290520" y="-66600"/>
            <a:ext cx="9725040" cy="69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36D-8693-4ACC-85B6-5A6E9E3259A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09871-3554-48C4-A347-DC94F23933D1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cholarly literatur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r-reviewed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r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03848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7A0-86B4-4AA1-B718-5CA114C134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AB0EB-877D-45F5-81E7-B7B699E9942B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Google search spid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reement allows search Google spiders access to scholarly research normally locked behind subscription barr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CLC Worldc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M.. IEEE..Emerald In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Quest…Institute of Physics (w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ringer, Wiley, Elsevier, Pub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6F4-92BF-4FBA-98DB-BC42A19E5F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5831D-1E94-493F-AE3E-E71D4FBA7048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pecial Ranking Algorith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into accou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text of each art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often cited in scholarly 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ful reference should appear at 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6F1-EF20-476D-BEF6-39BF05E030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FE966-6567-4952-9626-4B92512951B8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cholarly journal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ext from open access jou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r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ext if your institution has sub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s for all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B3F-A68E-4DBA-A6C6-A79B167053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81B62-DDE8-486A-99B0-7CAC9FF86A5A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goo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ke original Googl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imple 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mart relevance r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69000" y="3276720"/>
            <a:ext cx="206532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0BA-B734-424F-BA06-A28645EE79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89C9B-BEBA-4D8C-9F3C-D9010246FD7A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8000"/>
                </a:solidFill>
                <a:latin typeface="Times New Roman"/>
              </a:rPr>
              <a:t>What’s good….(2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oad based index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llions of records..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ake invisible web visibl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ost for open-access advo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rch &amp; view results for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oss data base sear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tation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brary search-Web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have CrossRef search as subset in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students graduate, they still have acces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ee, easy to use tool for those without access to major research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5F2-DEEF-42E2-85EB-2A4761B8AB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D83D1-1E69-4E49-B2A8-390B0F288C57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8000"/>
                </a:solidFill>
                <a:latin typeface="Times New Roman"/>
              </a:rPr>
              <a:t>And what’s not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sophisticated sear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limiting by language,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be refined….(Advanced search add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sources are we search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Qs not substa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ts not numb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brary sear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t compreh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ll text often pri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660-0215-4763-9698-6F027C1E21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4722C-7F95-446E-BE31-7EFD015A7DE9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not…(2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much duplication in h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‘personalis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ps in the coverage of publishers arch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ations unclear and not as well presented as the best citation data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s may be conf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ontain adverti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045-1CC2-4425-9B94-2BBDB18B87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4D210-A38B-415B-89F2-607EB24172BC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808000"/>
                </a:solidFill>
                <a:latin typeface="Times New Roman"/>
              </a:rPr>
              <a:t>Scholar v Sciru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o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road subject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number of publisher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advanced search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full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number of abstracts &amp; c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, easy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B24-50DF-49E9-B67A-E3242304FA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DD14C-2F95-48A7-964D-69680A800BBC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724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4E4-6158-4B0D-A8D2-BC5A4FFE23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87BA8-7EC4-4014-B323-08599F92EB9B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808000"/>
                </a:solidFill>
                <a:latin typeface="Times New Roman"/>
              </a:rPr>
              <a:t>Scholar v Sciru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ir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Science-specific search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comprehensive STM-specific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8m full-text articles and abs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vanced search capabilities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oice of subject areas to search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 by dat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 by information type..ie con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D88-A3F9-4EF6-ABE1-04C62C63D6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EAF73-E90C-4C58-8DA1-1BC18A28265E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05764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hor: Ben  Eklof          Google Scholar 17 h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b of Science 32 h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838080"/>
            <a:ext cx="676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[BOOK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Russian Peasant Schools. Officialdom, village culture, and popular pedagogy, 1861-1914 -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Library Sear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Web Search</a:t>
            </a:r>
            <a:br>
              <a:rPr sz="2400"/>
            </a:br>
            <a:r>
              <a:rPr b="0" lang="en-GB" sz="2400" spc="-1" strike="noStrike">
                <a:solidFill>
                  <a:srgbClr val="008000"/>
                </a:solidFill>
                <a:latin typeface="Arial"/>
                <a:ea typeface="Arial"/>
              </a:rPr>
              <a:t>B Ekl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GB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Cited by 1</a:t>
            </a:r>
            <a:br>
              <a:rPr sz="2400"/>
            </a:br>
            <a:r>
              <a:rPr b="0" lang="en-GB" sz="2400" spc="-1" strike="noStrike">
                <a:solidFill>
                  <a:srgbClr val="008000"/>
                </a:solidFill>
                <a:latin typeface="Arial"/>
                <a:ea typeface="Arial"/>
              </a:rPr>
              <a:t>Berkley, Los Angeles, London: University of California Press, 198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527880" y="1523880"/>
            <a:ext cx="238752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F8F-9A5C-4142-A803-3EBF076C2D2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6C36C-FDAF-4B1A-985E-53B2F69240C6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8000"/>
                </a:solidFill>
                <a:latin typeface="Times New Roman"/>
              </a:rPr>
              <a:t>Journal of Gastrointestinal</a:t>
            </a:r>
            <a:br>
              <a:rPr sz="4400"/>
            </a:br>
            <a:r>
              <a:rPr b="0" i="1" lang="en-US" sz="4400" spc="-1" strike="noStrike">
                <a:solidFill>
                  <a:srgbClr val="808000"/>
                </a:solidFill>
                <a:latin typeface="Times New Roman"/>
              </a:rPr>
              <a:t>Surge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1480" y="2590920"/>
            <a:ext cx="3276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ub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943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cience 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307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4572000"/>
            <a:ext cx="2727360" cy="1143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F35-548A-42FB-ABAB-D96EDC7BB5E8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C39DC-96C7-4922-B1DA-7D8C4B077A01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GS highlight the resources out there and strengthen the Library’s argument for more finances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will GS be used as an argument for questioning the purchase of certain electronic products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710-5315-40E1-8AF4-4B056D3675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EE5AB-5DD7-495C-90A8-AB4A5582C29A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84F-B2FC-432E-9473-DDDDC7035D0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E5CD7-2840-4332-A229-84BE2DB15FAE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90520" y="-66600"/>
            <a:ext cx="9725040" cy="69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D9F-3A68-4831-AA0F-4EB8FDAD638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53F2B-93EB-4308-BD88-20BE2D12DDA9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Google Schola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sing and free tool for searching for scholarly information. Important to recognise pres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ding sources..developing feat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 court of appeal to find or add to results to searches tried elsewhere in the database world.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 for Librarians- Help users understand research tools and what each does bes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CC1-2D75-4DCF-B810-96A7D43B07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E556-E3E0-4159-9B8D-114DA63E9915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8000"/>
                </a:solidFill>
                <a:latin typeface="Times New Roman"/>
              </a:rPr>
              <a:t>Information Literac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ogle’s grand virtual library will only succeed if people have the skills to keep up with the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Boston Globe, 21-12-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57F-C4FA-4F30-BD38-2EF7C0B2E5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2A676-D6EE-4DC0-9362-D55ECCF0822B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808000"/>
                </a:solidFill>
                <a:latin typeface="Times New Roman"/>
              </a:rPr>
              <a:t>Google’s grand virtual libra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F9C-B808-4A84-81E6-24D3B60D8D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D0816-CD8A-4EB3-B0DB-D205E6ACE0F0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Google Digital Library Proje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with major research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of millions of books to digital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m books to be scanned over 6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contracts with each library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copyright-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books freely available to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find cop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419112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vard, Stanfor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xford, Michig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Y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FDF-A7CF-4166-B68F-7BAAC39C2D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54E57-EA8E-4E23-8F66-ABC3366125E4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8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cultural implications of opening up the contents of the worlds great libra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? Agreement with publis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‘well-being’ of the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for the virtual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A87-45E8-4DE8-A2DF-A6F04A2B3A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8AD3E-9DBB-4B4F-B83A-DEE0DC5ED23B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Google Pri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arch from ordinary goo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arch terms lead to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ink to booksellers, print &amp; out of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ink to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ed information on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oogle's mission is to organize the world's information and make it universally accessible and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6F8-ECED-421F-B955-C749D3AB25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FCD4B-EDBE-46BC-86D8-F109BC46159F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290520" y="-66600"/>
            <a:ext cx="9725040" cy="69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431-E85D-436F-956B-47679360A2F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A1DB7-AAF7-458B-BD19-56ACC0CA09B0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90520" y="-66600"/>
            <a:ext cx="9725040" cy="69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367-7D79-4B67-BBC5-02CD66B6733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50C37-E215-4FCB-89F2-BE8DEA654D35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Google Schola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urag Achar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ur goal is to allow researchers to at least find that the content exists.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reement with scientific &amp; academic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blishers must provide abs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-stop indexing tool for scholarly literatu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AE9-8393-4B11-9463-3B7EEFB179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BE6DA-29AF-442F-A241-CFF18ADE8609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1:19:06Z</dcterms:created>
  <dc:creator>Tony</dc:creator>
  <dc:description/>
  <dc:language>en-US</dc:language>
  <cp:lastModifiedBy>Patricia Soria De Miguel</cp:lastModifiedBy>
  <dcterms:modified xsi:type="dcterms:W3CDTF">2005-02-21T09:42:54Z</dcterms:modified>
  <cp:revision>46</cp:revision>
  <dc:subject/>
  <dc:title>On the Shoulders of Giants</dc:title>
</cp:coreProperties>
</file>