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2357-29D8-4E07-A767-635C56FA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5B2-4B89-49C1-B2D7-F495D744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843-7CCB-41A5-90F3-D618E170A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6D6-9143-4418-89E7-D0731A6E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D1D9-AC46-4CC1-8B49-ACA90B072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3F92-490B-4611-B1CF-D98EB6AB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B41E-0558-485B-90D7-91373D39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5D3E-81F7-41F3-A71D-5152493F4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3979-E516-404B-8931-42F614EE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AD0C-6BDE-4263-8C1F-04136A38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4A12-E969-4D0C-98D8-E7509B05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EE43-D84E-4811-A533-B1A9A53B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D8F5-3A4F-41B3-B9A6-B2478CD1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BCC1-4F65-418F-AE0C-352EF7FE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5EA1-16D5-4BEE-AEA7-B6DE4CBB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9D3B-384F-4AF3-80EF-CF6CE3FE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221A-C0E0-4858-BAC8-391D9EE4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680-5E10-4173-95D8-B8436F5F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A3D-DC9E-4423-9F8B-B7B943D1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982-29B8-4AD3-87A7-8E327906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725-FF95-4FD6-9818-57B9D430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5B4-0AB3-48CF-B187-742C66AD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335-012C-46DC-BBEE-0372A8CF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6DDF-7A56-49E4-939F-5246BD2F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65840" y="610380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2A01-5FFD-4452-9166-0C54FFD9F3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8EE0-B058-423D-ACC6-6BCDD30DE9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rc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25142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 Sheeh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 of Library Servi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lin City Universit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ul.sheehan@dcu.i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February 2005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itutional Reposi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sponsor of Geneva workshops on Open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ing directory of Open Access Repositories. Collaboration between SHERPA and L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ing aims of Budapest Open Access initiative of which it is a signa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information - details of big de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information - EU investigation into scientific jour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: how best to lobby MEPs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: how best to link with sympathetic international organisations e.g.  Open Society Institut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erms of debate - what gets a hearing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now aimed more at funding bo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ing an understanding with learned society publis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thr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solidating market share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undling/consortia de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cencing/IP iss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sidual rights, management software, user interfac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RC (US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nitiative of the Association of Research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ed in 199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Average journal prices increased 226% 1986-2001(5 X CPI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w has over 200 institutional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RC Europe 100+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s - Advoc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ning the terms/community of deb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ublishing strategies. Disaggregation/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s - A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- Compet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Ecology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nership - publishing partners I.e IEEE, CUP, MIT p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58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RC (USA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 - open access alternatives to subscri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Access journals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itutional repository m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558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RC (USA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H Campa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H single biggest funder of bioscience research in USA ($27b grants in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House of Representatives Appropriations Committee recommended NIH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pers be made freely available in PubMedCentral within 6 months of pub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C then ran a campaign based on taxpayer access to information. Formed Alliance for Taxpayer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shers have since fough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proposal: NIH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ou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uthors to lodge papers in PubMedCentral asap &amp; within 12 months of pub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 Physiological Society has sought legal opinion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587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H Campa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ampaig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paper on Society journal publishing &amp; involvement of research funders in this discu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trust issues in scholarly and legal publishing . SPARC co-sponsor of symposium on this in Washington DC on February 11th 2005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RC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in 2002 under the aegis of Liber, with financial support from JIS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not required to commit to journal  support in same way as in 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hip exceeds 100. Predominantly northern Europe. Seeking to expand in southern/eastern Europ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RC Europe - R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/Expla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ssions - HoC Science &amp;Technology Committee, EU investigation into scientific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ccess IRs &amp; OA jour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6T16:27:57Z</dcterms:created>
  <dc:creator>Paul Sheehan</dc:creator>
  <dc:description/>
  <dc:language>en-US</dc:language>
  <cp:lastModifiedBy>Patricia Soria De Miguel</cp:lastModifiedBy>
  <cp:lastPrinted>2001-02-07T16:11:57Z</cp:lastPrinted>
  <dcterms:modified xsi:type="dcterms:W3CDTF">2005-02-24T14:37:13Z</dcterms:modified>
  <cp:revision>36</cp:revision>
  <dc:subject/>
  <dc:title>DCU Library</dc:title>
</cp:coreProperties>
</file>