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4EB43-E819-4245-9FFC-F8A6423DDF4B}" type="slidenum"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1AE0E-97E0-447B-A36B-24A492519630}" type="slidenum"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2774C-30F4-494D-B770-A42F851E0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098E2-699C-4BD5-B94F-D591F2FA6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AB75C-2519-4F8A-A725-BC5AAC1B3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1B094-9C18-46AE-8448-68C5461EF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10E57-A43F-422D-A8DD-38EC05623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6F180-9877-4630-8247-B7FE868E1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F2D6A-3FA1-4CCF-B566-048853670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21EA3-10D6-4B23-91BA-6C726F833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F78CA-478F-4605-8C39-EF65A8CAB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76DDB-9D1B-4C71-ADCB-4F64B6E5A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C523F-33CE-42B5-87AD-7A85BA790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717F2-09C4-4B00-BF49-007FA64FB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4DB7B-95E8-4ECD-BD5C-E35F33C52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D8E9B-5391-46FB-B310-8F5A0ED30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2C952-7698-41B5-9323-E12265BEC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5C262-9675-4CF3-AEFE-AB6CFDD38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471E2-BFBF-4D90-B0CD-45EA35F1D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844D4-22B3-433A-9D68-66D059B07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FC879-F854-459D-97B2-FA7AC1B26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8B327-37E7-4424-974C-C9EACF741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8B1FE-EE33-4C89-8AA0-B7D54BEF0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8D387-2374-4BE1-9E03-8750263D1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CD12B-9371-45DD-9061-A5A1953AD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C4DC3-F7DB-4DA0-B4CE-7454227EA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99323-6B01-4FDA-945F-68D322E442EC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74220-A007-4D53-BD35-9D0AA771DBD8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Book Antiqu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5400" spc="-1" strike="noStrike">
                <a:solidFill>
                  <a:srgbClr val="ccecff"/>
                </a:solidFill>
                <a:latin typeface="Arial"/>
              </a:rPr>
              <a:t>SFX</a:t>
            </a:r>
            <a:br>
              <a:rPr sz="5400"/>
            </a:br>
            <a:r>
              <a:rPr b="0" lang="en-IE" sz="5400" spc="-1" strike="noStrike">
                <a:solidFill>
                  <a:srgbClr val="ccecff"/>
                </a:solidFill>
                <a:latin typeface="Arial"/>
              </a:rPr>
              <a:t>- Link Resolver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ook Antiqua"/>
              </a:rPr>
              <a:t>Niall McSweene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ook Antiqua"/>
              </a:rPr>
              <a:t>Monica Crump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Book Antiqua"/>
              </a:rPr>
              <a:t>James Hardiman Library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Book Antiqua"/>
              </a:rPr>
              <a:t>NUI, Galwa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ccecff"/>
                </a:solidFill>
                <a:latin typeface="Arial"/>
              </a:rPr>
              <a:t>A Quick Sample Look…</a:t>
            </a:r>
            <a:endParaRPr b="0" lang="en-US" sz="30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611280" y="1773360"/>
          <a:ext cx="7057800" cy="470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773360"/>
                    <a:ext cx="7057800" cy="470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ccecff"/>
                </a:solidFill>
                <a:latin typeface="Arial"/>
              </a:rPr>
              <a:t>A Quick Sample Look…</a:t>
            </a:r>
            <a:endParaRPr b="0" lang="en-US" sz="3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611280" y="1773360"/>
          <a:ext cx="6827760" cy="4628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773360"/>
                    <a:ext cx="6827760" cy="462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539640" y="1469880"/>
            <a:ext cx="5480280" cy="400068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762120" y="4680000"/>
            <a:ext cx="1166760" cy="34272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685800" y="4527720"/>
            <a:ext cx="1461960" cy="612720"/>
          </a:xfrm>
          <a:prstGeom prst="rect">
            <a:avLst/>
          </a:prstGeom>
          <a:noFill/>
          <a:ln w="381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2438280" y="1251000"/>
          <a:ext cx="3748320" cy="4352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38280" y="1251000"/>
                    <a:ext cx="3748320" cy="435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6" name=""/>
          <p:cNvSpPr/>
          <p:nvPr/>
        </p:nvSpPr>
        <p:spPr>
          <a:xfrm>
            <a:off x="2514600" y="2165400"/>
            <a:ext cx="3656160" cy="428400"/>
          </a:xfrm>
          <a:prstGeom prst="rect">
            <a:avLst/>
          </a:prstGeom>
          <a:noFill/>
          <a:ln w="381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990720" y="0"/>
            <a:ext cx="708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ccff"/>
                </a:solidFill>
                <a:latin typeface="Verdana"/>
              </a:rPr>
              <a:t>A more thorough examp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5"/>
          <a:stretch/>
        </p:blipFill>
        <p:spPr>
          <a:xfrm>
            <a:off x="3875040" y="1371600"/>
            <a:ext cx="4659480" cy="390852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304920" y="5638680"/>
            <a:ext cx="23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SFX Sour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52680" y="5638680"/>
            <a:ext cx="188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SFX Men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095880" y="5638680"/>
            <a:ext cx="213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SFX Targ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438280" y="5791320"/>
            <a:ext cx="731880" cy="244440"/>
          </a:xfrm>
          <a:prstGeom prst="rightArrow">
            <a:avLst>
              <a:gd name="adj1" fmla="val 50000"/>
              <a:gd name="adj2" fmla="val 74853"/>
            </a:avLst>
          </a:prstGeom>
          <a:solidFill>
            <a:srgbClr val="ff9933"/>
          </a:soli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57800" y="5791320"/>
            <a:ext cx="731880" cy="244440"/>
          </a:xfrm>
          <a:prstGeom prst="rightArrow">
            <a:avLst>
              <a:gd name="adj1" fmla="val 50000"/>
              <a:gd name="adj2" fmla="val 74853"/>
            </a:avLst>
          </a:prstGeom>
          <a:solidFill>
            <a:srgbClr val="ff9933"/>
          </a:soli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500"/>
                            </p:stCondLst>
                            <p:childTnLst>
                              <p:par>
                                <p:cTn id="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2000"/>
                            </p:stCondLst>
                            <p:childTnLst>
                              <p:par>
                                <p:cTn id="4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3500"/>
                            </p:stCondLst>
                            <p:childTnLst>
                              <p:par>
                                <p:cTn id="4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0"/>
                            </p:stCondLst>
                            <p:childTnLst>
                              <p:par>
                                <p:cTn id="5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Changes SFX Will Brin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Book Antiqua"/>
              </a:rPr>
              <a:t>No more dead links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Book Antiqua"/>
              </a:rPr>
              <a:t>  </a:t>
            </a:r>
            <a:r>
              <a:rPr b="0" lang="en-GB" sz="2200" spc="-1" strike="noStrike">
                <a:solidFill>
                  <a:srgbClr val="ffffff"/>
                </a:solidFill>
                <a:latin typeface="Book Antiqua"/>
              </a:rPr>
              <a:t>- ‘Error 404’ means resource was moved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Book Antiqua"/>
              </a:rPr>
              <a:t>  </a:t>
            </a:r>
            <a:r>
              <a:rPr b="0" lang="en-GB" sz="2200" spc="-1" strike="noStrike">
                <a:solidFill>
                  <a:srgbClr val="ffffff"/>
                </a:solidFill>
                <a:latin typeface="Book Antiqua"/>
              </a:rPr>
              <a:t>- Because SFX is a dynamic linking environment, links are created in real time when requested by a user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Book Antiqua"/>
              </a:rPr>
              <a:t>Extra Services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GB" sz="2600" spc="-1" strike="noStrike">
                <a:solidFill>
                  <a:srgbClr val="ffffff"/>
                </a:solidFill>
                <a:latin typeface="Book Antiqua"/>
              </a:rPr>
              <a:t>  </a:t>
            </a:r>
            <a:r>
              <a:rPr b="0" lang="en-GB" sz="2200" spc="-1" strike="noStrike">
                <a:solidFill>
                  <a:srgbClr val="ffffff"/>
                </a:solidFill>
                <a:latin typeface="Book Antiqua"/>
              </a:rPr>
              <a:t>- if full-text is not available electronically the user can seamlessly check the catalogue for a paper copy or ILL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Book Antiqua"/>
              </a:rPr>
              <a:t>E-Journals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GB" sz="2600" spc="-1" strike="noStrike">
                <a:solidFill>
                  <a:srgbClr val="ffffff"/>
                </a:solidFill>
                <a:latin typeface="Book Antiqua"/>
              </a:rPr>
              <a:t>  </a:t>
            </a:r>
            <a:r>
              <a:rPr b="0" lang="en-GB" sz="2200" spc="-1" strike="noStrike">
                <a:solidFill>
                  <a:srgbClr val="ffffff"/>
                </a:solidFill>
                <a:latin typeface="Book Antiqua"/>
              </a:rPr>
              <a:t>- SFX can create a customizable alphabetical journal title list for the website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Other Possible Chang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Book Antiqua"/>
              </a:rPr>
              <a:t>Makes searching much easier – helps ‘user empowerment’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Book Antiqua"/>
              </a:rPr>
              <a:t>Change our approach to the structure of E-Resources – standardisation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Book Antiqua"/>
              </a:rPr>
              <a:t>Website changes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4360" y="2276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SFX: </a:t>
            </a:r>
            <a:br>
              <a:rPr sz="4800"/>
            </a:b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Impact on subscription management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FX Benefit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Increased discoverability of all full-text subscriptions (‘targets’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Greater user satisfaction with A/I resources (‘sources’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Increased usag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Maximise value for mone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Impact on Subscription Decision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755280" y="1628640"/>
            <a:ext cx="7931160" cy="45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Book Antiqua"/>
              </a:rPr>
              <a:t>Mass cancellation of non-OpenURL compliant resources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Book Antiqua"/>
              </a:rPr>
              <a:t>Importance of OpenURL in new subscription decision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Book Antiqua"/>
              </a:rPr>
              <a:t>Platform selection – proprietary search interfaces no longer so significan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SFX:  A panacea for our e-sub management woes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Knowledge base – dynamic, all-knowing, easy to use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No longer a role for cataloguing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Duplication of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Record creation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Maintenance/alteration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Laborious and error-prone procedur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ccecff"/>
                </a:solidFill>
                <a:latin typeface="Arial"/>
              </a:rPr>
              <a:t>MARCit!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Book Antiqua"/>
              </a:rPr>
              <a:t>SFX has a new baby brother called MARCit!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cc66"/>
                </a:solidFill>
                <a:latin typeface="Book Antiqua"/>
              </a:rPr>
              <a:t>SFX </a:t>
            </a:r>
            <a:r>
              <a:rPr b="0" lang="en-IE" sz="2800" spc="-1" strike="noStrike">
                <a:solidFill>
                  <a:srgbClr val="ffffff"/>
                </a:solidFill>
                <a:latin typeface="Book Antiqua"/>
              </a:rPr>
              <a:t>exports full list of journal titles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cc66"/>
                </a:solidFill>
                <a:latin typeface="Book Antiqua"/>
              </a:rPr>
              <a:t>MARCit!</a:t>
            </a:r>
            <a:r>
              <a:rPr b="0" lang="en-IE" sz="2800" spc="-1" strike="noStrike">
                <a:solidFill>
                  <a:srgbClr val="ffffff"/>
                </a:solidFill>
                <a:latin typeface="Book Antiqua"/>
              </a:rPr>
              <a:t> produces full MARC recor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cc66"/>
                </a:solidFill>
                <a:latin typeface="Book Antiqua"/>
              </a:rPr>
              <a:t>Aleph</a:t>
            </a:r>
            <a:r>
              <a:rPr b="0" lang="en-IE" sz="2800" spc="-1" strike="noStrike">
                <a:solidFill>
                  <a:srgbClr val="ffffff"/>
                </a:solidFill>
                <a:latin typeface="Book Antiqua"/>
              </a:rPr>
              <a:t> imports the file produced by MARCit!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Book Antiqua"/>
              </a:rPr>
              <a:t>The result:  MARC records in the OPAC for all our e-resourc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Book Antiqua"/>
              </a:rPr>
              <a:t>Source of records = CONSER, excellent quality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ccecff"/>
                </a:solidFill>
                <a:latin typeface="Arial"/>
              </a:rPr>
              <a:t>Background to SFX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ook Antiqua"/>
              </a:rPr>
              <a:t>ALEPH Librar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ook Antiqua"/>
              </a:rPr>
              <a:t>Ex Libris produc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ook Antiqua"/>
              </a:rPr>
              <a:t>Appointment of E-Resources Co-ordinator - Rónán Kenned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raining February  2004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Installation, vendors, sources, targets, knowledge base etc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ook Antiqua"/>
              </a:rPr>
              <a:t>SFX/Metalib Advisory Committe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Quietly” live September 2004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Upgrade early 2005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ccecff"/>
                </a:solidFill>
                <a:latin typeface="Arial"/>
              </a:rPr>
              <a:t>IReL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Book Antiqua"/>
              </a:rPr>
              <a:t>How to provide access quickly to thousands of full text titles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Book Antiqua"/>
              </a:rPr>
              <a:t>Individual catalogue records manually created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Book Antiqua"/>
              </a:rPr>
              <a:t>SFX has allowed us to immediately make IReL titles discoverabl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Book Antiqua"/>
              </a:rPr>
              <a:t>MARCit! may enable us to provide direct title access via the catalogue quickl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What is SFX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en-GB" sz="3200" spc="-1" strike="noStrike">
                <a:solidFill>
                  <a:srgbClr val="ffffff"/>
                </a:solidFill>
                <a:latin typeface="Book Antiqua"/>
              </a:rPr>
              <a:t>“</a:t>
            </a:r>
            <a:r>
              <a:rPr b="0" lang="en-GB" sz="3200" spc="-1" strike="noStrike">
                <a:solidFill>
                  <a:srgbClr val="ffffff"/>
                </a:solidFill>
                <a:latin typeface="Book Antiqua"/>
              </a:rPr>
              <a:t>SFX is a context sensitive link server from ExLibris that allows context-sensitive linking between Web resources in the scholarly linking environment”</a:t>
            </a: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en-GB" sz="1700" spc="-1" strike="noStrike">
                <a:solidFill>
                  <a:srgbClr val="ffffff"/>
                </a:solidFill>
                <a:latin typeface="Verdana"/>
              </a:rPr>
              <a:t>(sfxit.com)</a:t>
            </a: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Book Antiqua"/>
              </a:rPr>
              <a:t>From a database citation, it can link directly to the full text of an e-journal article or to the catalogue record of print journal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Verdana"/>
              </a:rPr>
              <a:t>Uses OpenURL linking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Book Antiqua"/>
              </a:rPr>
              <a:t>  </a:t>
            </a:r>
            <a:r>
              <a:rPr b="0" lang="en-GB" sz="3000" spc="-1" strike="noStrike">
                <a:solidFill>
                  <a:srgbClr val="ffffff"/>
                </a:solidFill>
                <a:latin typeface="Book Antiqua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Book Antiqua"/>
              </a:rPr>
              <a:t>the syntax for moving bibliographic data between information providers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Book Antiqua"/>
              </a:rPr>
              <a:t>  </a:t>
            </a:r>
            <a:r>
              <a:rPr b="0" lang="en-GB" sz="3000" spc="-1" strike="noStrike">
                <a:solidFill>
                  <a:srgbClr val="ffffff"/>
                </a:solidFill>
                <a:latin typeface="Book Antiqua"/>
              </a:rPr>
              <a:t>- no longer need solid links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Old Linkin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71" name="11" descr=""/>
          <p:cNvPicPr/>
          <p:nvPr/>
        </p:nvPicPr>
        <p:blipFill>
          <a:blip r:embed="rId1"/>
          <a:stretch/>
        </p:blipFill>
        <p:spPr>
          <a:xfrm>
            <a:off x="1476360" y="1773360"/>
            <a:ext cx="6191280" cy="152532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1909080" y="4292640"/>
            <a:ext cx="552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ttp://publish.stuff.org/abstract/PRA/v63/p06210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116000" y="4869000"/>
            <a:ext cx="6840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971640" y="4941720"/>
            <a:ext cx="7065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Book Antiqua"/>
              </a:rPr>
              <a:t>(courtesy of Ex Libri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New Linkin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76" name="2" descr=""/>
          <p:cNvPicPr/>
          <p:nvPr/>
        </p:nvPicPr>
        <p:blipFill>
          <a:blip r:embed="rId1"/>
          <a:stretch/>
        </p:blipFill>
        <p:spPr>
          <a:xfrm>
            <a:off x="539640" y="1557360"/>
            <a:ext cx="8039160" cy="268596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1042920" y="4508640"/>
            <a:ext cx="6553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sfx.nuigalway.ie/menu?genre=article&amp;issn=1234-567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&amp;volume=12&amp;issue=3&amp;spage=1&amp;epage=8&amp;date=199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&amp;aulast=Murphy&amp;aufirst=Pad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042920" y="5445000"/>
            <a:ext cx="633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ffffff"/>
                </a:solidFill>
                <a:latin typeface="Arial"/>
              </a:rPr>
              <a:t>(courtesy of ExLibri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How does it work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Sources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Book Antiqua"/>
              </a:rPr>
              <a:t>     </a:t>
            </a:r>
            <a:r>
              <a:rPr b="0" lang="en-GB" sz="3000" spc="-1" strike="noStrike">
                <a:solidFill>
                  <a:srgbClr val="ffffff"/>
                </a:solidFill>
                <a:latin typeface="Book Antiqua"/>
              </a:rPr>
              <a:t>A source is where a user would be starting their search eg a reference or a citation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Targets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Book Antiqua"/>
              </a:rPr>
              <a:t>     </a:t>
            </a:r>
            <a:r>
              <a:rPr b="0" lang="en-GB" sz="3000" spc="-1" strike="noStrike">
                <a:solidFill>
                  <a:srgbClr val="ffffff"/>
                </a:solidFill>
                <a:latin typeface="Book Antiqua"/>
              </a:rPr>
              <a:t>Targets are items to which the user wishes    to link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ccecff"/>
                </a:solidFill>
                <a:latin typeface="Arial"/>
              </a:rPr>
              <a:t>Implication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26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900" spc="-1" strike="noStrike">
                <a:solidFill>
                  <a:srgbClr val="ffffff"/>
                </a:solidFill>
                <a:latin typeface="Book Antiqua"/>
              </a:rPr>
              <a:t>For The Library: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ffffff"/>
                </a:solidFill>
                <a:latin typeface="Book Antiqua"/>
              </a:rPr>
              <a:t>       </a:t>
            </a:r>
            <a:r>
              <a:rPr b="0" lang="en-IE" sz="2200" spc="-1" strike="noStrike">
                <a:solidFill>
                  <a:srgbClr val="ffffff"/>
                </a:solidFill>
                <a:latin typeface="Book Antiqua"/>
              </a:rPr>
              <a:t>Standardisation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IE" sz="2200" spc="-1" strike="noStrike">
                <a:solidFill>
                  <a:srgbClr val="ffffff"/>
                </a:solidFill>
                <a:latin typeface="Book Antiqua"/>
              </a:rPr>
              <a:t>Gives us more say, in terms of linking options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ffffff"/>
                </a:solidFill>
                <a:latin typeface="Book Antiqua"/>
              </a:rPr>
              <a:t>       </a:t>
            </a:r>
            <a:r>
              <a:rPr b="0" lang="en-IE" sz="2200" spc="-1" strike="noStrike">
                <a:solidFill>
                  <a:srgbClr val="ffffff"/>
                </a:solidFill>
                <a:latin typeface="Book Antiqua"/>
              </a:rPr>
              <a:t>Statistics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IE" sz="2200" spc="-1" strike="noStrike">
                <a:solidFill>
                  <a:srgbClr val="ffffff"/>
                </a:solidFill>
                <a:latin typeface="Book Antiqua"/>
              </a:rPr>
              <a:t>Increases usage – more value for money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ccecff"/>
                </a:solidFill>
                <a:latin typeface="Arial"/>
              </a:rPr>
              <a:t>Implication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26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900" spc="-1" strike="noStrike">
                <a:solidFill>
                  <a:srgbClr val="ffffff"/>
                </a:solidFill>
                <a:latin typeface="Book Antiqua"/>
              </a:rPr>
              <a:t>For The Library User: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ffffff"/>
                </a:solidFill>
                <a:latin typeface="Book Antiqua"/>
              </a:rPr>
              <a:t>       </a:t>
            </a:r>
            <a:r>
              <a:rPr b="0" lang="en-IE" sz="2200" spc="-1" strike="noStrike">
                <a:solidFill>
                  <a:srgbClr val="ffffff"/>
                </a:solidFill>
                <a:latin typeface="Book Antiqua"/>
              </a:rPr>
              <a:t>Linking is easier &amp; quicker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ffffff"/>
                </a:solidFill>
                <a:latin typeface="Book Antiqua"/>
              </a:rPr>
              <a:t>       </a:t>
            </a:r>
            <a:r>
              <a:rPr b="0" lang="en-IE" sz="2200" spc="-1" strike="noStrike">
                <a:solidFill>
                  <a:srgbClr val="ffffff"/>
                </a:solidFill>
                <a:latin typeface="Book Antiqua"/>
              </a:rPr>
              <a:t>Opens doors to new resources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ffffff"/>
                </a:solidFill>
                <a:latin typeface="Book Antiqua"/>
              </a:rPr>
              <a:t>       </a:t>
            </a:r>
            <a:r>
              <a:rPr b="0" lang="en-IE" sz="2200" spc="-1" strike="noStrike">
                <a:solidFill>
                  <a:srgbClr val="ffffff"/>
                </a:solidFill>
                <a:latin typeface="Book Antiqua"/>
              </a:rPr>
              <a:t>Intuitive – ‘push the button’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ffffff"/>
                </a:solidFill>
                <a:latin typeface="Book Antiqua"/>
              </a:rPr>
              <a:t>       </a:t>
            </a:r>
            <a:r>
              <a:rPr b="0" lang="en-IE" sz="2200" spc="-1" strike="noStrike">
                <a:solidFill>
                  <a:srgbClr val="ffffff"/>
                </a:solidFill>
                <a:latin typeface="Book Antiqua"/>
              </a:rPr>
              <a:t>Relevant options only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ffffff"/>
                </a:solidFill>
                <a:latin typeface="Book Antiqua"/>
              </a:rPr>
              <a:t>       </a:t>
            </a:r>
            <a:r>
              <a:rPr b="0" lang="en-IE" sz="2200" spc="-1" strike="noStrike">
                <a:solidFill>
                  <a:srgbClr val="ffffff"/>
                </a:solidFill>
                <a:latin typeface="Book Antiqua"/>
              </a:rPr>
              <a:t>Allows linking to IReL acquisitions without knowledge of them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1T09:10:30Z</dcterms:created>
  <dc:creator>rkennedy</dc:creator>
  <dc:description/>
  <dc:language>en-US</dc:language>
  <cp:lastModifiedBy>crumpm</cp:lastModifiedBy>
  <dcterms:modified xsi:type="dcterms:W3CDTF">2005-02-21T16:23:06Z</dcterms:modified>
  <cp:revision>8</cp:revision>
  <dc:subject/>
  <dc:title>Lir SFX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682267967</vt:r8>
  </property>
  <property fmtid="{D5CDD505-2E9C-101B-9397-08002B2CF9AE}" pid="3" name="_AuthorEmail">
    <vt:lpwstr>monica.crump@nuigalway.ie</vt:lpwstr>
  </property>
  <property fmtid="{D5CDD505-2E9C-101B-9397-08002B2CF9AE}" pid="4" name="_AuthorEmailDisplayName">
    <vt:lpwstr>Monica Crump</vt:lpwstr>
  </property>
  <property fmtid="{D5CDD505-2E9C-101B-9397-08002B2CF9AE}" pid="5" name="_EmailSubject">
    <vt:lpwstr>Presentation for LIR</vt:lpwstr>
  </property>
</Properties>
</file>