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068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77392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9936-44D4-4940-948D-E37B483D42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20680" y="692280"/>
            <a:ext cx="4618080" cy="3463920"/>
          </a:xfrm>
          <a:prstGeom prst="rect">
            <a:avLst/>
          </a:prstGeom>
          <a:ln w="0">
            <a:noFill/>
          </a:ln>
        </p:spPr>
      </p:sp>
      <p:sp>
        <p:nvSpPr>
          <p:cNvPr id="153"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is is the 3</a:t>
            </a:r>
            <a:r>
              <a:rPr b="0" lang="en-IE" sz="1200" spc="-1" strike="noStrike" baseline="30000">
                <a:solidFill>
                  <a:srgbClr val="000000"/>
                </a:solidFill>
                <a:latin typeface="Times New Roman"/>
              </a:rPr>
              <a:t>rd</a:t>
            </a:r>
            <a:r>
              <a:rPr b="0" lang="en-IE" sz="1200" spc="-1" strike="noStrike">
                <a:solidFill>
                  <a:srgbClr val="000000"/>
                </a:solidFill>
                <a:latin typeface="Times New Roman"/>
              </a:rPr>
              <a:t>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6B99F-4955-4009-9989-3B1CCB9C8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25B86-1447-4FDA-A310-1E6E048EA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E0E7-E668-40B7-9608-8289C5EED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6AB03-F439-4E89-9505-7F990328B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A9CF9-5B3F-4E6C-80F1-1A0B7D0BF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FB468-4BB6-467B-A25A-09CA7D7D3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EFA71-BF80-4EE9-8481-82EADA39C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3A2D5-7CCC-4F89-B2B2-DD1F91B9A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D4F9C-A40B-4800-9FFB-81D911895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79ADA-F46D-455C-96F8-7064FA9F2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30A37-F3A6-4303-AB1C-474A1F0D4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AF5E2-0DC1-4446-AE03-89BC0A6FC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147C-E9DC-4A41-9AFC-0B3EB0188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56714-985D-45C5-9305-61578C0C4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14BE1-AC9A-4E66-AE41-63FE9D003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E366E-270B-4446-8597-B9B3BD0DA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8C287-ACC2-40D8-BB61-B954C70E5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4ACA-EFCC-4609-AB12-6955F96A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61BB-202B-4E9B-B689-0368178A8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D2F1-E30F-46DD-A343-890BF8DC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CC56A-C21D-4612-877D-A27ABA4E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D117-EF96-4067-A1F5-AA61983C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FB3F-2D7B-44E2-8B78-1B27A816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7C7E-9869-4C75-B093-5A95CED85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22B9-C92E-4717-BA3A-DD32D01408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07D1-2218-46FB-A283-10A72A953F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61760"/>
            <a:ext cx="80755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nk Resolvers: Serials Sol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1447920" y="33523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ine Finucan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cquisitions Librari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University of Limerick</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LIR Annual Seminar 2005</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114480"/>
            <a:ext cx="9753840" cy="7086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228600"/>
            <a:ext cx="9753480" cy="7086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at is an OpenURL?</a:t>
            </a:r>
            <a:endParaRPr b="0" lang="en-US" sz="4400" spc="-1" strike="noStrike">
              <a:solidFill>
                <a:srgbClr val="ffcc66"/>
              </a:solidFill>
              <a:latin typeface="Arial"/>
            </a:endParaRPr>
          </a:p>
        </p:txBody>
      </p:sp>
      <p:sp>
        <p:nvSpPr>
          <p:cNvPr id="1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Standardized way of constructing a URL to describe a specific item, usually an article or journal</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A means for transporting data consistently for processing by an OpenURL link resolver</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Serials Solutions)</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Several OpenURL Resolvers:</a:t>
            </a:r>
            <a:endParaRPr b="0" lang="en-US" sz="2800" spc="-1" strike="noStrike">
              <a:solidFill>
                <a:srgbClr val="ffffff"/>
              </a:solidFill>
              <a:latin typeface="Times New Roman"/>
            </a:endParaRPr>
          </a:p>
          <a:p>
            <a:pPr lvl="1" marL="743040" indent="-285840">
              <a:lnSpc>
                <a:spcPct val="90000"/>
              </a:lnSpc>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Ex Libris – SFX</a:t>
            </a:r>
            <a:endParaRPr b="0" lang="en-US" sz="2400" spc="-1" strike="noStrike">
              <a:solidFill>
                <a:srgbClr val="ffffff"/>
              </a:solidFill>
              <a:latin typeface="Times New Roman"/>
            </a:endParaRPr>
          </a:p>
          <a:p>
            <a:pPr lvl="1" marL="743040" indent="-285840">
              <a:lnSpc>
                <a:spcPct val="90000"/>
              </a:lnSpc>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Ebsco – LinkSource</a:t>
            </a:r>
            <a:endParaRPr b="0" lang="en-US" sz="2400" spc="-1" strike="noStrike">
              <a:solidFill>
                <a:srgbClr val="ffffff"/>
              </a:solidFill>
              <a:latin typeface="Times New Roman"/>
            </a:endParaRPr>
          </a:p>
          <a:p>
            <a:pPr lvl="1" marL="743040" indent="-285840">
              <a:lnSpc>
                <a:spcPct val="90000"/>
              </a:lnSpc>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Serials Solutions - Article Linker</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at is Article Linker?</a:t>
            </a:r>
            <a:endParaRPr b="0" lang="en-US" sz="4400" spc="-1" strike="noStrike">
              <a:solidFill>
                <a:srgbClr val="ffcc66"/>
              </a:solidFill>
              <a:latin typeface="Arial"/>
            </a:endParaRPr>
          </a:p>
        </p:txBody>
      </p:sp>
      <p:sp>
        <p:nvSpPr>
          <p:cNvPr id="11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t>
            </a:r>
            <a:r>
              <a:rPr b="0" lang="en-US" sz="2800" spc="-1" strike="noStrike">
                <a:solidFill>
                  <a:srgbClr val="ffffff"/>
                </a:solidFill>
                <a:latin typeface="Times New Roman"/>
                <a:ea typeface="Arial"/>
              </a:rPr>
              <a:t>Serials Solution Article Linker is a full-feature OpenURL link resolver that seamlessly links all of your library resources. When a user finds a citation or reference to a specific article, Article Linker supplies the best available path to the content, anywhere in your collection. Users no longer need to search between databases or repeat searches using different search engines and search methods.”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 2000-05 Serials Solutions, Inc.</a:t>
            </a:r>
            <a:r>
              <a:rPr b="0" lang="en-US" sz="2400" spc="-1" strike="noStrike">
                <a:solidFill>
                  <a:srgbClr val="000080"/>
                </a:solidFill>
                <a:latin typeface="Arial"/>
                <a:ea typeface="Arial"/>
              </a:rPr>
              <a:t> </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14" name="" descr=""/>
          <p:cNvPicPr/>
          <p:nvPr/>
        </p:nvPicPr>
        <p:blipFill>
          <a:blip r:embed="rId1"/>
          <a:stretch/>
        </p:blipFill>
        <p:spPr>
          <a:xfrm>
            <a:off x="-152280" y="-228600"/>
            <a:ext cx="975348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16" name="" descr=""/>
          <p:cNvPicPr/>
          <p:nvPr/>
        </p:nvPicPr>
        <p:blipFill>
          <a:blip r:embed="rId1"/>
          <a:stretch/>
        </p:blipFill>
        <p:spPr>
          <a:xfrm>
            <a:off x="-152280" y="-228600"/>
            <a:ext cx="975348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18" name="" descr=""/>
          <p:cNvPicPr/>
          <p:nvPr/>
        </p:nvPicPr>
        <p:blipFill>
          <a:blip r:embed="rId1"/>
          <a:stretch/>
        </p:blipFill>
        <p:spPr>
          <a:xfrm>
            <a:off x="-152280" y="-228600"/>
            <a:ext cx="975348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20" name="" descr=""/>
          <p:cNvPicPr/>
          <p:nvPr/>
        </p:nvPicPr>
        <p:blipFill>
          <a:blip r:embed="rId1"/>
          <a:stretch/>
        </p:blipFill>
        <p:spPr>
          <a:xfrm>
            <a:off x="-152280" y="-228600"/>
            <a:ext cx="9753480" cy="7315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y Article Linker?</a:t>
            </a:r>
            <a:endParaRPr b="0" lang="en-US" sz="4400" spc="-1" strike="noStrike">
              <a:solidFill>
                <a:srgbClr val="ffcc66"/>
              </a:solidFill>
              <a:latin typeface="Arial"/>
            </a:endParaRPr>
          </a:p>
        </p:txBody>
      </p:sp>
      <p:sp>
        <p:nvSpPr>
          <p:cNvPr id="12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Happy with Serials Solutions experience and eager to try new services</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Cost effective</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Limited technical expertise required </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We were encouraged by such quotes as:</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t>
            </a:r>
            <a:r>
              <a:rPr b="0" lang="en-IE" sz="3200" spc="-1" strike="noStrike">
                <a:solidFill>
                  <a:srgbClr val="ffffff"/>
                </a:solidFill>
                <a:latin typeface="Times New Roman"/>
              </a:rPr>
              <a:t>Article Linker revolutionized our library service in about 15 minutes.”</a:t>
            </a:r>
            <a:endParaRPr b="0" lang="en-US" sz="32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imes New Roman"/>
              </a:rPr>
              <a:t>Susan Scheiburg, Assistant Library Director, RAND Corporation</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lementation Cost</a:t>
            </a:r>
            <a:endParaRPr b="0" lang="en-US" sz="4400" spc="-1" strike="noStrike">
              <a:solidFill>
                <a:srgbClr val="ffcc66"/>
              </a:solidFill>
              <a:latin typeface="Arial"/>
            </a:endParaRPr>
          </a:p>
        </p:txBody>
      </p:sp>
      <p:sp>
        <p:nvSpPr>
          <p:cNvPr id="12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itial cost - €4,400 for 7,001-10,000 titles</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enance of A-Z list &amp; Article Linker </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wnership changes: Serials Solutions, Bowker, Proquest</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hange in the quality of the service</a:t>
            </a:r>
            <a:endParaRPr b="0" lang="en-US" sz="3200" spc="-1" strike="noStrike">
              <a:solidFill>
                <a:srgbClr val="ffffff"/>
              </a:solidFill>
              <a:latin typeface="Times New Roman"/>
            </a:endParaRPr>
          </a:p>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1-15,000 title pricing tier this year</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y Serials Solutions?</a:t>
            </a:r>
            <a:endParaRPr b="0" lang="en-US" sz="4400" spc="-1" strike="noStrike">
              <a:solidFill>
                <a:srgbClr val="ffcc66"/>
              </a:solidFill>
              <a:latin typeface="Arial"/>
            </a:endParaRPr>
          </a:p>
        </p:txBody>
      </p:sp>
      <p:sp>
        <p:nvSpPr>
          <p:cNvPr id="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Purchased A to Z list - the summer of 2002</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HTML file of journals available through database aggregators</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Rationale:</a:t>
            </a:r>
            <a:endParaRPr b="0" lang="en-US" sz="3200" spc="-1" strike="noStrike">
              <a:solidFill>
                <a:srgbClr val="ffffff"/>
              </a:solidFill>
              <a:latin typeface="Times New Roman"/>
            </a:endParaRPr>
          </a:p>
          <a:p>
            <a:pPr lvl="1" marL="735480" indent="-28296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Lack of staff and time</a:t>
            </a:r>
            <a:endParaRPr b="0" lang="en-US" sz="2800" spc="-1" strike="noStrike">
              <a:solidFill>
                <a:srgbClr val="ffffff"/>
              </a:solidFill>
              <a:latin typeface="Times New Roman"/>
            </a:endParaRPr>
          </a:p>
          <a:p>
            <a:pPr lvl="1" marL="735480" indent="-28296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Cost effectiveness</a:t>
            </a:r>
            <a:endParaRPr b="0" lang="en-US" sz="28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They seemed to know what we needed before we did!</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lementation</a:t>
            </a:r>
            <a:endParaRPr b="0" lang="en-US" sz="4400" spc="-1" strike="noStrike">
              <a:solidFill>
                <a:srgbClr val="ffcc66"/>
              </a:solidFill>
              <a:latin typeface="Arial"/>
            </a:endParaRPr>
          </a:p>
        </p:txBody>
      </p:sp>
      <p:sp>
        <p:nvSpPr>
          <p:cNvPr id="12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a:rPr>
              <a:t>We implemented Article Linker in Autumn 2003</a:t>
            </a:r>
            <a:endParaRPr b="0" lang="en-US" sz="2800" spc="-1" strike="noStrike">
              <a:solidFill>
                <a:srgbClr val="ffffff"/>
              </a:solidFill>
              <a:latin typeface="Times New Roman"/>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a:rPr>
              <a:t>A set-up form, telephone call and email from Serials Solutions</a:t>
            </a:r>
            <a:endParaRPr b="0" lang="en-US" sz="2800" spc="-1" strike="noStrike">
              <a:solidFill>
                <a:srgbClr val="ffffff"/>
              </a:solidFill>
              <a:latin typeface="Times New Roman"/>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a:rPr>
              <a:t>Two types of set-up:</a:t>
            </a:r>
            <a:endParaRPr b="0" lang="en-US" sz="2800" spc="-1" strike="noStrike">
              <a:solidFill>
                <a:srgbClr val="ffffff"/>
              </a:solidFill>
              <a:latin typeface="Times New Roman"/>
            </a:endParaRPr>
          </a:p>
          <a:p>
            <a:pPr lvl="1" marL="743040" indent="-285840">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Arial"/>
              </a:rPr>
              <a:t>Do it yourself on the administrator page, e.g. Ebsco.</a:t>
            </a:r>
            <a:endParaRPr b="0" lang="en-US" sz="2400" spc="-1" strike="noStrike">
              <a:solidFill>
                <a:srgbClr val="ffffff"/>
              </a:solidFill>
              <a:latin typeface="Times New Roman"/>
            </a:endParaRPr>
          </a:p>
          <a:p>
            <a:pPr lvl="1" marL="743040" indent="-285840">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Arial"/>
              </a:rPr>
              <a:t>Contact the provider, e.g. Science Direct</a:t>
            </a:r>
            <a:endParaRPr b="0" lang="en-US" sz="2400" spc="-1" strike="noStrike">
              <a:solidFill>
                <a:srgbClr val="ffffff"/>
              </a:solidFill>
              <a:latin typeface="Times New Roman"/>
            </a:endParaRPr>
          </a:p>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a:rPr>
              <a:t>Items required in both cases:</a:t>
            </a:r>
            <a:endParaRPr b="0" lang="en-US" sz="2800" spc="-1" strike="noStrike">
              <a:solidFill>
                <a:srgbClr val="ffffff"/>
              </a:solidFill>
              <a:latin typeface="Times New Roman"/>
            </a:endParaRPr>
          </a:p>
          <a:p>
            <a:pPr lvl="1" marL="743040" indent="-285840">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Arial"/>
              </a:rPr>
              <a:t>Base URL - points OpenURL to Serials Solutions: </a:t>
            </a:r>
            <a:r>
              <a:rPr b="0" lang="en-US" sz="2400" spc="-1" strike="noStrike">
                <a:solidFill>
                  <a:srgbClr val="ffffff"/>
                </a:solidFill>
                <a:latin typeface="Times New Roman"/>
                <a:ea typeface="Arial"/>
              </a:rPr>
              <a:t>http://WA9AE9UV9T.search.serialssolutions.com/</a:t>
            </a:r>
            <a:endParaRPr b="0" lang="en-US" sz="2400" spc="-1" strike="noStrike">
              <a:solidFill>
                <a:srgbClr val="ffffff"/>
              </a:solidFill>
              <a:latin typeface="Times New Roman"/>
            </a:endParaRPr>
          </a:p>
          <a:p>
            <a:pPr lvl="1" marL="743040" indent="-285840">
              <a:spcBef>
                <a:spcPts val="601"/>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Arial"/>
              </a:rPr>
              <a:t>Text or Hyperlink information e.g “Find Full Text”</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753480" cy="7086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 Action…</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Article Linker:</a:t>
            </a:r>
            <a:endParaRPr b="0" lang="en-US" sz="32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I Web of Knowledge</a:t>
            </a:r>
            <a:endParaRPr b="0" lang="en-US" sz="28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NAHL</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228600"/>
            <a:ext cx="9753480" cy="7086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753480" cy="7086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228600"/>
            <a:ext cx="9753480" cy="7086600"/>
          </a:xfrm>
          <a:prstGeom prst="rect">
            <a:avLst/>
          </a:prstGeom>
          <a:ln w="0">
            <a:noFill/>
          </a:ln>
        </p:spPr>
      </p:pic>
      <p:pic>
        <p:nvPicPr>
          <p:cNvPr id="133" name="" descr=""/>
          <p:cNvPicPr/>
          <p:nvPr/>
        </p:nvPicPr>
        <p:blipFill>
          <a:blip r:embed="rId2"/>
          <a:stretch/>
        </p:blipFill>
        <p:spPr>
          <a:xfrm>
            <a:off x="0" y="-228600"/>
            <a:ext cx="9753480" cy="7086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28600"/>
            <a:ext cx="9753480" cy="7086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2280" y="-228600"/>
            <a:ext cx="9753480" cy="7086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753480" cy="7086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228600"/>
            <a:ext cx="9753480" cy="7086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E Journal AMS</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n easy to use web based service</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imited technical expertise required</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acility to add print holdings</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Excellent technical support</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Next day updating</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Facility to download MARC records</a:t>
            </a:r>
            <a:endParaRPr b="0" lang="en-US" sz="3200" spc="-1" strike="noStrike">
              <a:solidFill>
                <a:srgbClr val="ffffff"/>
              </a:solidFill>
              <a:latin typeface="Times New Roman"/>
            </a:endParaRPr>
          </a:p>
          <a:p>
            <a:pPr marL="339480" indent="-3394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E Journal portal</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228600"/>
            <a:ext cx="9753480" cy="7086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228600"/>
            <a:ext cx="9753480" cy="7086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228600"/>
            <a:ext cx="9753480" cy="708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228600"/>
            <a:ext cx="9753480" cy="7086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228600"/>
            <a:ext cx="9753480" cy="7086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Usage Statistics</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Serials Solutions delivers comprehensive usage statistics which allow us to:</a:t>
            </a:r>
            <a:endParaRPr b="0" lang="en-US" sz="32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iscover how often users search for e-journals</a:t>
            </a:r>
            <a:endParaRPr b="0" lang="en-US" sz="28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cognise when they are searching</a:t>
            </a:r>
            <a:endParaRPr b="0" lang="en-US" sz="28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dentify the tools they are using</a:t>
            </a:r>
            <a:endParaRPr b="0" lang="en-US" sz="28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iscover what they are searching for</a:t>
            </a:r>
            <a:endParaRPr b="0" lang="en-US" sz="2800" spc="-1" strike="noStrike">
              <a:solidFill>
                <a:srgbClr val="ffffff"/>
              </a:solidFill>
              <a:latin typeface="Times New Roman"/>
            </a:endParaRPr>
          </a:p>
          <a:p>
            <a:pPr lvl="1" marL="743040" indent="-285840">
              <a:spcBef>
                <a:spcPts val="700"/>
              </a:spcBef>
              <a:buClr>
                <a:srgbClr val="ffcc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lap analysis</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228600"/>
            <a:ext cx="9753480" cy="7086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753480" cy="7086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2280" y="0"/>
            <a:ext cx="9753480" cy="7086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753480" cy="7086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228600"/>
            <a:ext cx="9753480" cy="7086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52280" y="-228600"/>
            <a:ext cx="9753480" cy="7086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Future Developments</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Inhouse Z39.50 Search - involving Talis and Serials Solution</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Central Search - Serials Solutions are working on a federated search engin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urther customisation of e-journal portal and results page</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ials Solutions ILL form</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ddition of further services as a result of IReL initiativ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228600"/>
            <a:ext cx="9753480" cy="708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753480" cy="7086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228600"/>
            <a:ext cx="9753480" cy="7086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920" y="-114480"/>
            <a:ext cx="9753840" cy="7086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114480"/>
            <a:ext cx="9753840" cy="7086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7:36:26Z</dcterms:created>
  <dc:creator>Brian.Sexton</dc:creator>
  <dc:description/>
  <dc:language>en-US</dc:language>
  <cp:lastModifiedBy>Patricia Soria De Miguel</cp:lastModifiedBy>
  <dcterms:modified xsi:type="dcterms:W3CDTF">2005-02-24T12:38:52Z</dcterms:modified>
  <cp:revision>22</cp:revision>
  <dc:subject/>
  <dc:title>Link Resolvers: Serials Solutions</dc:title>
</cp:coreProperties>
</file>