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99BF-F934-41BE-BC42-5DE45E3DC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E0A-CC4A-4DD2-B40E-D0BA9542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F20-6CFF-4933-87C3-06A20AC0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09E-AECD-40F0-85E0-BAB0B2DB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3DFF-2736-4E1F-9A9B-60A75524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38D7-2DF4-4628-B197-1DF8A788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68AA-5AF3-4860-9472-89A9FD3C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C0AC-DA3D-4E1A-B0DF-E79DBF30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61C7-4148-4F60-A266-0E230F73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7E5E-5428-419A-BACA-2B2FFDE8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9CCA-C417-4E3B-BC1D-13DA78A8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61D5-D86C-4B99-AA7C-034D8F5C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BFE-5F3E-4C2B-9A84-8C34A1FF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ED80-51BA-4C66-912B-FAE2BF4B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89D4-57AF-48D9-A1D7-62BE71E1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9EF0-4438-417A-A23B-530B71D1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9A26-9F25-447A-92EA-6AF30606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B15E-02C6-4E3F-A52C-EDA6C8EE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F89-B230-4043-B614-1063EA50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0D5-3830-481E-8CEB-61FA2E1C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EDE-E4E5-4266-8D12-65AFE86D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22B7-1261-4B89-9AB0-F032DCDB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102-0DF5-4BD8-BD9B-7F6A05DE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0AC-27AB-4C54-AC2D-8F45A46B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0A5-10EC-4DF2-98C2-A7EA66FC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0565-9A9E-43E6-9889-78B71D80F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48-bonw-tr" descr=""/>
          <p:cNvPicPr/>
          <p:nvPr/>
        </p:nvPicPr>
        <p:blipFill>
          <a:blip r:embed="rId2"/>
          <a:stretch/>
        </p:blipFill>
        <p:spPr>
          <a:xfrm>
            <a:off x="7238880" y="6095880"/>
            <a:ext cx="11145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8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DDDE-6318-4C5B-98D4-6BC91F991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48-bonw-tr" descr=""/>
          <p:cNvPicPr/>
          <p:nvPr/>
        </p:nvPicPr>
        <p:blipFill>
          <a:blip r:embed="rId2"/>
          <a:stretch/>
        </p:blipFill>
        <p:spPr>
          <a:xfrm>
            <a:off x="7315200" y="6095880"/>
            <a:ext cx="11145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438280" y="4191120"/>
            <a:ext cx="6096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y Whit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or of Librar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Universit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Open Libr@ry: creating library services at a distance</a:t>
            </a: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Information literacy</a:t>
            </a:r>
            <a:endParaRPr b="0" i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tting information literacy skills into OU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going work with Course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gest Learning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rite materials and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b-based Information Literacy training package (SAFA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ic, multi-level, multi-discipl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from academic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Information Literacy</a:t>
            </a: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ort course in Information Lite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 study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include information skills for citizenship as well as information skills for lifelong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ds to Key Skills Assessment Framework in Information Lite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333333"/>
                </a:solidFill>
                <a:latin typeface="Times New Roman"/>
              </a:rPr>
              <a:t>Summary: new roles and services</a:t>
            </a: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ians as “para-academics ”/educational technologists/ contributors to pedagogic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management skills/training in C&amp;IT/documentation/help-de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strategy/knowledg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vice and consultancy (e.g.web management, meta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okers/navigators/negotiators/evaluator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ic information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Issues 1: library staff</a:t>
            </a: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the learner/customer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 attitudes and skills (hybrid ski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-activ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different sorts of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liaison with acade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as institutional chang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Issues 2 </a:t>
            </a: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ing  (who pays? new costing models, activity analy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s (copyright and licens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/technical standards/tomorrow’s technology, leapfrogging and scenario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management: enabling innovation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m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yOpenLibr@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ectronic help-desk (OPA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ABLE 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About the OU</a:t>
            </a:r>
            <a:endParaRPr b="0" i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6,000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ound 70% of OU students successfully complete courses each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ound 25,000 students studying outside the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than 100,000 students study interactively on-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,000 students using electronic library servi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ly all OU students are part-time and about 70% of undergraduate students remain in full-time employment throughout their stud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00 staff, 900 acade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00 associate lecturers and tu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 regional off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Middle States Commission</a:t>
            </a:r>
            <a:br>
              <a:rPr sz="3200"/>
            </a:b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 on Higher Education</a:t>
            </a:r>
            <a:endParaRPr b="0" i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library an absolute prerequisite for a degree-granting institution of higher education, or is it instead an indicator of some increasing level of quality above an acceptable minimum?  If a physical library is not a pre-requisite what types or combinations of electronic resources could be considered acceptable substitutes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cognise that there may be some conflict of interest, asking this of someone who may well be committed to the traditional campus library. However times are changing ………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33"/>
                </a:solidFill>
                <a:latin typeface="Times New Roman"/>
              </a:rPr>
              <a:t>What do distance learners want?</a:t>
            </a:r>
            <a:br>
              <a:rPr sz="3600"/>
            </a:br>
            <a:r>
              <a:rPr b="0" i="1" lang="en-US" sz="3600" spc="-1" strike="noStrike">
                <a:solidFill>
                  <a:srgbClr val="333333"/>
                </a:solidFill>
                <a:latin typeface="Times New Roman"/>
              </a:rPr>
              <a:t>Students and Libraries Project 1999</a:t>
            </a:r>
            <a:endParaRPr b="0" i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rd winning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500 OU students surve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 use information other than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% used academic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had access to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few used information research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access to OU Library staff &amp; resourc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333333"/>
                </a:solidFill>
                <a:latin typeface="Times New Roman"/>
              </a:rPr>
              <a:t>Open Libr@ry</a:t>
            </a:r>
            <a:endParaRPr b="0" i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arner support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ess to physical libraries (academic, public, European, British Counc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ess to databases,  electronic journals and quick reference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ess to document delivery/booksh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aluated, managed web resources for individual courses (ROU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vide training (electronic and face-to-face) (SAFARI/INFOSKI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lp-desk (e-mail, telephone, conferencing - named conta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The Open Libr@ry</a:t>
            </a:r>
            <a:endParaRPr b="0" i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391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991360" cy="670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1T15:40:13Z</dcterms:created>
  <dc:creator>Preferred Customer</dc:creator>
  <dc:description/>
  <dc:language>en-US</dc:language>
  <cp:lastModifiedBy>Hugh Brazier</cp:lastModifiedBy>
  <dcterms:modified xsi:type="dcterms:W3CDTF">2001-04-27T09:07:53Z</dcterms:modified>
  <cp:revision>37</cp:revision>
  <dc:subject/>
  <dc:title>What do I need?</dc:title>
</cp:coreProperties>
</file>