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5220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D8B9-65A2-463A-8A87-67E1480B85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8D69-4C66-4998-8ABC-959689D575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25880" cy="36939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A554-1DD5-4E1D-BE47-92D58E3B4C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25880" cy="3693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62DE-2B0C-467F-86A3-B0A78AFAD1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ldImg"/>
          </p:nvPr>
        </p:nvSpPr>
        <p:spPr>
          <a:xfrm>
            <a:off x="936720" y="744480"/>
            <a:ext cx="4911480" cy="368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6055-2F96-4352-BEBA-237891CC52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838080" y="457164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29120" cy="3697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1274-4E8C-4640-9574-4EA248503B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14400" y="4648320"/>
            <a:ext cx="49752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Img"/>
          </p:nvPr>
        </p:nvSpPr>
        <p:spPr>
          <a:xfrm>
            <a:off x="938160" y="746280"/>
            <a:ext cx="4910040" cy="3682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7FDF-CD59-4F43-AF69-7377EB1646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25880" cy="3693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09D4-CF41-4EDD-A25F-9CCC35AB7A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936720" y="744480"/>
            <a:ext cx="4911480" cy="368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CCA8-697A-4589-AFAC-4525166F03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25880" cy="36939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EDBC-AA96-4514-9396-CBB069BB73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936720" y="744480"/>
            <a:ext cx="4911480" cy="368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11E7-198E-472F-AE70-BC6E7834DB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25880" cy="36939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B6B7-697F-4E65-B80B-391A7DA462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25880" cy="36939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640B-DA69-4A76-A545-0CF42CFB26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8800" y="738360"/>
            <a:ext cx="4929120" cy="3697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5040" y="4683240"/>
            <a:ext cx="49752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35E-C1DA-4BB1-8AB7-2EFDF849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DFD-C6CA-4E43-A1FC-68F4D8F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768-3F77-4BF1-9509-9D56C005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C66-4E47-4840-9873-CA311DB4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F911-C608-4090-9BF1-ED2B3E7F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02BC-1BB3-4EA0-AABC-E32F604B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1FC4-8FB7-49A7-B128-7C52E6A7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B174-50E6-4284-90F9-4DD2BC57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B2BA-D18E-4004-B5D7-8884D0A8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1F60-20C7-4EF4-A6F1-60F175AD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8706-CE27-4AC7-BAEF-A691F4F7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93B-F470-47AD-9904-7B5EEAD0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E4BD-3052-4BBA-A2B4-379C70A7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816E-40ED-42DD-BF9A-4FA101A0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4E55-B8D9-4219-94CC-82435968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F11E-9B3F-4D3A-B29E-B4836AA7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5EFC-B2D4-4C53-8EBF-27EE7E80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6CC-3F8D-490E-B1D0-A9CF6205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CE7-84A6-4048-826A-0E6DF0AD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553-0B77-4485-A60B-4E981FC2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DF4-F0DE-4229-BAB3-CFC807CE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F4B-F7C1-4A95-A450-ADB3F546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BCE-6BB0-4A8B-981E-23251F8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E5F-A138-457C-8264-D3776EC7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4DDF-E53D-43B3-8C1A-9A3F7B68FC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84582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59BF-050E-4227-9E4D-B51B3462C9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8381880" cy="53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990360"/>
            <a:ext cx="772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he Liberated Librarian in the 21st Centu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6400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Judy Palm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Keeper of Scientific Book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Radcliffe Science Libr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Oxford Univers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jmp@bodley.ox.ac.uk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…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I think w</a:t>
            </a:r>
            <a:r>
              <a:rPr b="1" lang="en-GB" sz="4000" spc="-1" strike="noStrike">
                <a:solidFill>
                  <a:srgbClr val="000000"/>
                </a:solidFill>
                <a:latin typeface="Arial Black"/>
              </a:rPr>
              <a:t>e have 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Change librari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Change library us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Change libraries, systems and  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hanging practice and behavio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inforc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hamp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..so that librarians can move into new ro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ve out of the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alk to users in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their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lan and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egotiate and influence (wheel and de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each and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facilitat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derstand and exploit 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ritically appraise practice and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..and be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designers and managers of     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knowledg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du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blem solvers and synthesi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-navigators and publis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and the library becom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78840" cy="37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he first re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 library without w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he preferred gate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 centre of instruction in which to learn skills as well as access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 quality fil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With the user, NOT the collection, the focus of our atten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Black"/>
              </a:rPr>
              <a:t>And how do we do thi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vest in a grounded approach to strategic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vest in new solutions and lateral     th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vest in developing librari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operate, collaborate and coordinate across libraries, disciplines and s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Librarian of the 21st Centu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nge, change and more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itical Apprai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aching and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acili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formation retrieval and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market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Librarian of the 21st Centu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hown them how to do it be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ongitudinal cohort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iven them a new set of transferable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hanges for libraria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torage to access and print to electro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ree to fee and new compet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ew user expec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ew curricular requi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ew and more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re to do with less mon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ibrarian of the 21st Century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178840" cy="36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f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aised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brarians as part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brarians as instru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brarians in multiprofession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Black"/>
              </a:rPr>
              <a:t>C A S P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FIN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PPRAIS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SP F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be aware of the range and quality of available sources of ev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be aware of how searching techniques and search strategies may affect outco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hare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ttp://wwwlib.jr2.ox.ac.uk/caspf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We need to ask ourselv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950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Black"/>
              </a:rPr>
              <a:t>Do we want to b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Black"/>
              </a:rPr>
              <a:t>Golden retrievers or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Black"/>
              </a:rPr>
              <a:t>Bloodhounds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Final Exhortation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Take the high ground.  Stay in touch and keep on moving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Advice to US Mar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Carpe diem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en-GB" sz="6600" spc="-1" strike="noStrike">
                <a:solidFill>
                  <a:srgbClr val="000000"/>
                </a:solidFill>
                <a:latin typeface="Tahoma"/>
              </a:rPr>
              <a:t>.and readers?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ahoma"/>
              </a:rPr>
              <a:t>What do they think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..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library user expects information to appear on a screen as a result of a search that involves no more that half a dozen clicks on the mouse, with a final click to produce a print copy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red Frien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Journal of Electronic Publishing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, 5 (3), March 20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Librarians should be "people who are confident, personable, able to work collaboratively, imaginative, lively, good at presenting, good at meetings.  On top of that I want them to have an understanding of the major issues in information transfer in the late 20th/early 21st century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Libraries function as rear view mirrors, producing a deep and concentrated perspective on what lies behind..remember there will be a blind spot. Libraries not only have a blind spot, but lack the horse power to keep abreast of developments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…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Blaise Cronin, 19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Not all library users wish to change their route into information. In every revolution there are those who wish to continue in the old ways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Fred Friend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ahoma"/>
              </a:rPr>
              <a:t>Journal of Electronic Publishing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, 5 (3), March 20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Too many librarians adopt th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 B C approach to library management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Black"/>
              </a:rPr>
              <a:t>How do we make sure that readers don’t resort to this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5867280"/>
            <a:ext cx="81788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4:58:40Z</dcterms:created>
  <dc:creator>Health Care Libraries Unit</dc:creator>
  <dc:description/>
  <dc:language>en-US</dc:language>
  <cp:lastModifiedBy>Hellon Fallon</cp:lastModifiedBy>
  <cp:lastPrinted>2000-03-15T17:21:32Z</cp:lastPrinted>
  <dcterms:modified xsi:type="dcterms:W3CDTF">2001-04-24T13:18:32Z</dcterms:modified>
  <cp:revision>28</cp:revision>
  <dc:subject/>
  <dc:title>Challenges &amp; Opportunities  facing the Radcliffe Science Library and the Hooke Library</dc:title>
</cp:coreProperties>
</file>